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4.xml.rels" ContentType="application/vnd.openxmlformats-package.relationships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6C0-6782-40C4-9EAC-E15E571F1629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8952-C085-4FC1-AC6D-5B950BF8FF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E1C1-1A6B-47B8-9F24-1BDA60A68E6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Consequtive base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ACA-BE3C-4843-B725-9CDD5710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FF4-E884-4F6A-978D-4044CA9B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62C-BCE9-4FDA-A3FC-107BF06E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A18-1437-4FCE-97BC-F6544E35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335-08FE-48FF-8EE6-27169DA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FEE-9026-47AE-84E3-B451A428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0A8-CC89-4F5C-A0C4-0ED70160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9F2-7B65-4EB0-BC3F-098AF34C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2E6-6399-4A3D-B7EE-E32B996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FAD-63C1-4BA7-A524-DC493E0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740-5BA0-429A-81E4-3418EC8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35F-0E00-4E34-B71F-6540446F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8D82-F25A-4D29-B5A9-C5BD9155757C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B451-5E5A-4A8A-B1D2-80B5CF450934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to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to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to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 to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Access the Help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5998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ct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 ("if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"if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-match hel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.search (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.search ("arithmetic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"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w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"arithmetic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bjec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rogramming languag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named entitie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tore values (i.e. numbers, text strin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ling objects instead of mere values enables to build programs that work with different values in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.g. a program that computes the mean of a set of measurement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bject Nam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are identified by a textual label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ed character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-z A-Z 0-9 _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character of the name must be alphabe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 is case sen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 should suggest what is the function and content of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usually stick to this principle in my examples, structuring the name in two parts separated by “.”, although this is not required by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.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368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.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bject Assignmen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8960" indent="-531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ssignment opera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to assign a specific value to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languages require to first define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n object (e.g. numeric, character), and only then assign a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is more flexible: you assign the value without previous definition, and the type is inferred automat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bject Clas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variable you create belongs to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3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ob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lass indicates what type of value the object can ass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me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 /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.e. string of tex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.ch &lt;- "Hello World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g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.e. TRUE or FAL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explanation later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rithmetic opera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nipulate numeric objec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use the well-known arithmetic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ra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i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1 +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3 ^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gical Values and Express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logical expressio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will output a true or fals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p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object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lso assign the results of such expres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jects of type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parisons Opera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/ smaller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&gt;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parison Opera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 &lt;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 &lt;- x1.n == x2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b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always remember to use ‘==’ and not ‘=’ !!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ther logical express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eval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umeric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character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value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finite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D198-4C43-43DF-972D-9220C763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gical Opera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ingle values have a double symb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vectors have a single symbol (operate element by el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|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 &amp;&amp; 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 &amp;&amp; 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 || 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 || 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!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5715000" y="4267080"/>
            <a:ext cx="312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do some practice on data-set sub-setting using logical conditions later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cial Numerical Values: NA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pecial value that is assigned when it is not possible to have an actu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when, in a vector, some element has not been assigned a value (see next chapter for more detai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 &lt;- 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.na (x.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aware of NA values, as they can “propagate” when you compute operations, producing more NA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cial Numerical Values: Inf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can generate values that are not real numbers such as positive and negative infin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1 /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-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values are arithmetically operated with the following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 + 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 / 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kspace is the collection of all the objects you have created in a specific R s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list all objects in your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s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move object(s) from the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x.n, y.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move all objects in the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m (list = ls 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ve the Workspac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save all objects in your workspace, for use in another session, either using the GUI or using the com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file 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x.n, y.n, file = "ws_xn.RData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.image (file = "ws_all.RData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.image saves all o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orking directory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d that the workspace will be saved to a file located in the current working direc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hange the working directory use the GUI or the following com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wd ("C:\Users\Daniele\Documents\Data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heck what’s the current working direc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wd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c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composed of an ordered collection of element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sam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nv &lt;- c (1943, 1940, 1942, 19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n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umer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chv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charac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s the concatenation command, that you can use to generate an ordered collection of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or 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u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to count the number of vector el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ctor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ccess a subset of the vector, use indexes: the first element is associated to index 1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George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"Paul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1: 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chv &lt;- x.chv[c (1, 4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&lt;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ctor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ttempt to extract an element that does not exist will produce an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 &lt;- c ("George", "John", "Paul", "Ringo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you will be able to assign a  value to a position that does not exist y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5] &lt;- "The Walrus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f, doing so, you skip positions that have no values assigned, NA values will be gene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7] &lt;- "The Eggm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chv[6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ctor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ctor elements can also be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extual labels associated to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vectors of logic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nly elements with a corresponding true value will be extrac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Introduction to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884160" y="1749600"/>
            <a:ext cx="5192640" cy="768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Rlogo_HighRes.png"/>
          <p:cNvPicPr/>
          <p:nvPr/>
        </p:nvPicPr>
        <p:blipFill>
          <a:blip r:embed="rId2"/>
          <a:stretch/>
        </p:blipFill>
        <p:spPr>
          <a:xfrm>
            <a:off x="1066680" y="30481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UofTlogo.gif"/>
          <p:cNvPicPr/>
          <p:nvPr/>
        </p:nvPicPr>
        <p:blipFill>
          <a:blip r:embed="rId3"/>
          <a:stretch/>
        </p:blipFill>
        <p:spPr>
          <a:xfrm>
            <a:off x="6419880" y="2666880"/>
            <a:ext cx="2495520" cy="895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DonnellyCentre_logo.jpg"/>
          <p:cNvPicPr/>
          <p:nvPr/>
        </p:nvPicPr>
        <p:blipFill>
          <a:blip r:embed="rId4"/>
          <a:srcRect l="4625" t="0" r="0" b="0"/>
          <a:stretch/>
        </p:blipFill>
        <p:spPr>
          <a:xfrm>
            <a:off x="6248520" y="3660840"/>
            <a:ext cx="2895480" cy="8348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6248520" y="4800600"/>
            <a:ext cx="28191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Post-doctoral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onnelly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University of Tor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http://baderlab.org/DanieleMe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gical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elements with a correspond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ue val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 be extra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 &lt;- c (1: 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.nv[x1.nv &gt; 2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3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 &lt;- c (1: 2, NA, 0, 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.nv[!is.na (x2.nv)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 2 0 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ansforms logical vectors into numerical index v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(!is.na (x2.nv)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1 2 3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ric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5075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ces and arrays can be regarded as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dimensional extension of ve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for vector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elements must all be of the sam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have names (matrices: column and row n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itialize a matrix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62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co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yro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2, nrow = 3, byrow = 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   [,1] [,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,]    1   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2,]    3   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3,]    5   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(x.mx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3,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mx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itialize a matrix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for vectors, once a matrix has been initialized, it is not possible to access elements outside the defined dim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2, nrow = 3, byrow =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[3, 3] &lt;-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# Error in x.mx[3, 3] &lt;- 7 : subscript out of bou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dd additional rows or columns to an initialized matrix, check out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trix concatenation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rix Indexing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nalogy to vectors, there are different ways to access the matrix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ical ind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al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labels (rownames, colna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rix Index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atrix element is identified by a pair of ind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2, nrow = 3, byrow = 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[1, 1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[1: 2, 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   [,1] [,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,]    1   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[2,]    3   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ownames and Colnam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2, nrow = 3, byrow =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x.mx) &lt;- c ("c1", "c2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x.mx) &lt;- c ("r1", "r2", "r3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["r1", 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1 r2 r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1  3  5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mx["r1", ]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(x.mx["r1", ]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NU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ote that by subsetting the matrix to a single dimension the class has changed to (integer) vector, a subtype of numeric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voiding Matrix to Vector Convers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, after a subsetting operation, your matrix becomes a vector, be aware that you will lose several features typical of mat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ames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ames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not be available,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s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b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m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be NULL,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b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void this, use the following op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_obj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drop = F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33.mx &lt;- x.mx [3, 3, drop = F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33.mx); dim (x33.m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rithmetic Operat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x and scalar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element of the matrix is operated, using the sca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, subtraction, multiplication, division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x and vec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ector is treated as a matrix with only one row or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recycling if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x and matri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 by element (compatible dimensions requi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product (similar to dot produ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rix Concatenat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rix concatenation enables to add a row or a column to a pre-existing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bind 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concatenate by row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bind 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concatenate by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mx &lt;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 (c (1: 6), ncol = 3, nrow = 2, byrow =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bind (x.mx, c (7, 8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   [,1] [,2] [,3] [,4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,]    1    2    3    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2,]    4    5    6    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R?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ftware environ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tatistical computing and graph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handling (input, outpu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(e.g. exploratory statist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ly specialized data analysis (e.g. microarray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ly developed (1991-1996)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obert Gentlem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oss Ihak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open-source version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programming langu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ohn Cham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ell Lab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.fram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ata frame is similar to a matri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every column can have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fferent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umeric, character, logical, fac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cal data are typically loaded from files as data.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15840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d.tabl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082520"/>
            <a:ext cx="85345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Read.table is typically used to read tab-, comma- and space-separated files into data.fram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x.df &lt;- read.table (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nam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= "\t"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 = T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  = ""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ent.char = ""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 = 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is the separator character;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\t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for ta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controls the presence of a column titles in the first r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is a character vector indicating which characters are used to wrap strings that include the separator charac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controls automatic conversion of character vectors to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ent.ch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indicates which character will be interpreted as the beginning of a comment (not read into the data.fra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rite.tabl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rite.table is the “companion” of read table, it is used to write data.frames to tab/space/comma-separated text fil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.table (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x.df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= "\t"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col.names = T, row.names = F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  = F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nam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.names row.nam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control whether to print the colnames and rownames; mind that the column of rownames will not have  column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 controls whether character vectors will be printed with quote characters (usually avoid thi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.frame: Initializat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x.df &lt;- data.frame (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c1 = c (1, 2, 3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c2 = c ("a", "b", "c"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c3 = factor (c ("f1", "f2", "f2")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 = 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ta.frame Indexing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.frames are internally represented as lists, with the additional constraint that objects must be vectors or factors with equ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xing follows the rules for 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ccess column and output v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[[]]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ccess column and output v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ccess column and output data.fra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data.frame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$c1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numeric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$c2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character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$c3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factor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(x.df[, "c1"]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data.frame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bsetting Data.fram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ing Logical Condit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will often have to subset to the rows of a data.frame that meet given conditions: use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.fr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cal 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 (x.df, c1 &gt; 2 | c2 == "b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 c1 c2 c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2  2  b f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3  3  c f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339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logical condition you can refer to the data.frame columns just by their name (e.g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ctor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 are best used when you ha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e. when you have a collection of values that belong to a discrete set, and the same value can appear multiple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tegorical variable: cigarette smoking status (“Status”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tegorical values (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eve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: “present”, “past”, “never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moke.df &lt;- data.frame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ividual = c ("John", "Bob", "Jack", "Al"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 = factor (c ("present", rep ("past", 2), "never")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 =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vels (smoke.df$Stat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628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ount how many times each level occurs in a factor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(smoke.df$Statu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never: 1, past: 2, present: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two factors are present, you can also cross tabulate th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x.df &lt;- data.frame (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c (rep ("a1", 2), rep ("a2", 2))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c (rep ("b1", 1), rep ("b2", 3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(x.df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  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A    b1 b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a1  1 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   a2  0  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66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s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are ordered collection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st has a number of slots, which can be accessed by names (i.e. character labels) or by numeric ind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tent of the slot can be of any class (single value, numeric or character; vector; matrix; list; etc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al R functions for statistics output a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2340000" y="357336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2340000" y="3933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2484360" y="3716280"/>
            <a:ext cx="1224000" cy="45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3924360" y="3716280"/>
            <a:ext cx="12240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340000" y="44942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2484360" y="4276800"/>
            <a:ext cx="1224000" cy="45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3924360" y="4276800"/>
            <a:ext cx="12240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371600" y="3638520"/>
            <a:ext cx="824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st Exampl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1218960"/>
            <a:ext cx="86407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ls &lt;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 (Name = "John", Surname = "Locke", Birth_year = 163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$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John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$Sur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"Locke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$Birth_ye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[1] 16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: Core and Packag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 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interpreter (executes R c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interface (GU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ter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ite of essential tools for statistics and 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ibuted pack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ized data analysis (e.g. microarrays) or 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researcher can develop a package and submi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ioconduc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project for the development of genomic data analysis packages (http://www.bioconductor.org/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cessing List Slo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1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lot can be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numerical or logical 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slot name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ls[[2]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ls$Sur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ls[["Surname"]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ch &lt;- "Surname"; x.ls[[s.ch]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"Lock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ab Assignmen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"Forbes_2004.txt" as a data.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 the number of categorical values of 'category'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 the number of NA values of 'profits'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the rows with NA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the subset data to a new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the object in the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 the object 'Forbes_nna.df' as 'Forbes_nna.RData' 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s in the next slides, but try to figure it out your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52280" y="1519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set working directory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bes.df &lt;- read.table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= "Forbes_2004.txt"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= "\t", header = 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sAsFactors = 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 (Forbes.df$catego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na.ix &lt;- which (!is.na (Forbes.df$profits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(notna.ix) / nrow (Forbes.d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0.99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bes_nna.df &lt;- Forbes.df[notna.ix, 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52280" y="1519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.table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bes_nna.df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= "\t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.names = T, row.names = F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 = F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= "Forbes_2004_nna.txt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 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set working directory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ave (Forbes_nna.df, file = "Forbes_nna.RData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52280" y="12949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 Tuto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cyclismo.org/tutorial/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baderlab.org/PathwayAnalysisReadings#Le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 Project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r-project.org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 Introduction to 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cran.r-project.org/doc/manuals/R-intro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asic manual for R 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 Reference C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cran.r-project.org/doc/contrib/Short-refcard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er Dalgaard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roductory Statistics with R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ri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guide to the use of R and fundamental statistical analys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e Boo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r-project.org/doc/bib/R-jabref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Install R on Your Ow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50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ndows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load fr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cran.r-project.org/bin/windows/bas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ta users: to avoid pain, install R in a subfolder of your user fo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refer to th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ttp://cran.r-project.org/bin/windows/base/rw-FAQ.html#Does-R-run-under-Windows-Vista_003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al: install R code 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load Notepad+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sourceforge.net/projects/notepad-plus/fil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load NppToR (interfaces Notepadd++ and 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sourceforge.net/projects/nppto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Install R on Your Ow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c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cran.r-project.org/bin/macosx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code edito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ust use the built-in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 Programming Style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odes of 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45576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short program (a script), just to analyze som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45576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longer program, which will be used over and over by you and/or other u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course you will have enough exposure to R to perform (a) but not 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Use R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52280" y="13712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e R 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built-in editor or any other text e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 to save your code as a .R fil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n R 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GUI (R-Console) or a UNIX-style ter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will be generated by the graphics terminal as additional win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save graphics as files using R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save data in text format using R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85240" indent="-44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save data in the internal R representation by saving your 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Most Simple R Sess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following R code using the built-in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1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"Hello World"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the 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1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-in editor (Win): CTRL+F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1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t-in editor (Mac): APPLE+RE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1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platform/editor: copy and paste into the R-cons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spcBef>
                <a:spcPts val="700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R_GUI_01.png"/>
          <p:cNvPicPr/>
          <p:nvPr/>
        </p:nvPicPr>
        <p:blipFill>
          <a:blip r:embed="rId1"/>
          <a:stretch/>
        </p:blipFill>
        <p:spPr>
          <a:xfrm>
            <a:off x="304920" y="533520"/>
            <a:ext cx="85518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6:09:27Z</dcterms:created>
  <dc:creator>Michael Stromberg</dc:creator>
  <dc:description/>
  <dc:language>en-US</dc:language>
  <cp:lastModifiedBy>Daniele Merico</cp:lastModifiedBy>
  <dcterms:modified xsi:type="dcterms:W3CDTF">2011-01-13T21:57:00Z</dcterms:modified>
  <cp:revision>629</cp:revision>
  <dc:subject/>
  <dc:title>Slide 1</dc:title>
</cp:coreProperties>
</file>