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4.xml.rels" ContentType="application/vnd.openxmlformats-package.relationships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8FF3-CCC1-4E05-AB0F-938B85639849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7FF4-A26A-42A2-B53B-C948B0952F8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34A8-4112-4FC3-804B-DF002B9D207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Consequtive base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4EFA-BE71-407B-B1D8-48F2475D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717B-895B-48B2-858B-769CA18E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C5B7-C5F2-4FF3-A1AC-F8942943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1819-A8F2-4EC0-942C-BB348913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3A3E-7DB3-4D93-A7F2-FE39F1AE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D1B5-95E0-4281-A396-B6823746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A550-D41B-4268-8937-2D294FA2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F6F0-6011-443E-843A-02AC0118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9030-2A72-475B-AE7A-A75E8F66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F8D0-431D-4994-AF0A-41E6E185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E09-8638-447E-8DCB-5C7F9D2D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309A-170A-4B0A-AA4D-AF0B3465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73BA-5B87-4A0A-B582-9A54FF685854}" type="datetime">
              <a:rPr b="0" lang="en-US" sz="1200" spc="-1" strike="noStrike">
                <a:solidFill>
                  <a:srgbClr val="898989"/>
                </a:solidFill>
                <a:latin typeface="Segoe U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655D-CB81-4FC6-B2EE-693C5B58E493}" type="slidenum">
              <a:rPr b="0" lang="en-US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bioinformatics.ca-logo-white-text.png"/>
          <p:cNvPicPr/>
          <p:nvPr/>
        </p:nvPicPr>
        <p:blipFill>
          <a:blip r:embed="rId2"/>
          <a:stretch/>
        </p:blipFill>
        <p:spPr>
          <a:xfrm>
            <a:off x="76320" y="1882800"/>
            <a:ext cx="1191960" cy="501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76320" y="6429240"/>
            <a:ext cx="6705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Introduction to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6705720" y="6396120"/>
            <a:ext cx="2361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76320" y="6429240"/>
            <a:ext cx="6705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Introduction to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6705720" y="6396120"/>
            <a:ext cx="2361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76320" y="6429240"/>
            <a:ext cx="6705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Introduction to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6705720" y="6396120"/>
            <a:ext cx="2361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76320" y="6429240"/>
            <a:ext cx="6705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Introduction to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6705720" y="6396120"/>
            <a:ext cx="2361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0000"/>
                </a:solidFill>
                <a:latin typeface="Calibri"/>
                <a:ea typeface="ＭＳ Ｐゴシック"/>
              </a:rPr>
              <a:t>Canadian Bioinformatics Workshop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182600" y="3695400"/>
            <a:ext cx="67788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ww.bioinformatics.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ow to Access the Help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51920" y="159984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ct-match help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p ("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keyw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"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p ("if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"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keyw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"if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-match help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p.search ("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keyw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"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p.search ("arithmetic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?"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keyw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?"arithmetic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bject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programming languag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named entities calle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store values (i.e. numbers, text string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ndling objects instead of mere values enables to build programs that work with different values in in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e.g. a program that computes the mean of a set of measurement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bject Name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 are identified by a textual label,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3680" indent="-281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ed character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-z A-Z 0-9 _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3680" indent="-28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irst character of the name must be alphabe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3680" indent="-28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ame is case sens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ame should suggest what is the function and content of the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3680" indent="-28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will usually stick to this principle in my examples, structuring the name in two parts separated by “.”, although this is not required by 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368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.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368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.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bject Assignmen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8960" indent="-531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ssignment operat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used to assign a specific value to an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languages require to first define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n object (e.g. numeric, character), and only then assign a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 is more flexible: you assign the value without previous definition, and the type is inferred automati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bject Clas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ch variable you create belongs to a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la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3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objec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lass indicates what type of value the object can assu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umer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 /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rac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i.e. string of tex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.ch &lt;- "Hello World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gic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i.e. TRUE or FAL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explanation later 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rithmetic operator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9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manipulate numeric object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use the well-known arithmetic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rac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plic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vis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^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 +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3 ^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ogical Values and Expression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write logical expression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will output a true or false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ison oper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object proper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also assign the results of such express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objects of type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og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mparisons Operator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ater / smaller th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or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value or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or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=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or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or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or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or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=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or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&lt;- 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 &lt;-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bn &lt;- x1.n &gt; x2.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b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A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mparison Operator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9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al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or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=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or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&lt;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 &lt;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bn &lt;- x1.n == x2.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b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always remember to use ‘==’ and not ‘=’ !!!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ther logical expression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evalu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numeric 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character 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al value eval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finite 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na 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112E-C488-4ED4-AD09-8F335A7EF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Date Placeholder 2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#: Title of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Content Placeholder 9" descr="Picture 1.png"/>
          <p:cNvPicPr/>
          <p:nvPr/>
        </p:nvPicPr>
        <p:blipFill>
          <a:blip r:embed="rId1"/>
          <a:stretch/>
        </p:blipFill>
        <p:spPr>
          <a:xfrm>
            <a:off x="914400" y="73080"/>
            <a:ext cx="6858000" cy="6734160"/>
          </a:xfrm>
          <a:prstGeom prst="rect">
            <a:avLst/>
          </a:prstGeom>
          <a:ln w="0">
            <a:noFill/>
          </a:ln>
        </p:spPr>
      </p:pic>
      <p:sp>
        <p:nvSpPr>
          <p:cNvPr id="25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ogical Operator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49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single values have a double symb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vectors have a single symbol (operate element by ele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&amp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||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!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 &amp;&amp; 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 &amp;&amp; 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 &amp;&amp; 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 || 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 || 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 || 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3"/>
          <p:cNvSpPr/>
          <p:nvPr/>
        </p:nvSpPr>
        <p:spPr>
          <a:xfrm>
            <a:off x="5715000" y="4267080"/>
            <a:ext cx="3124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do some practice on data-set sub-setting using logical conditions later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pecial Numerical Values: NA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special value that is assigned when it is not possible to have an actual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 when, in a vector, some element has not been assigned a value (see next chapter for more detai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61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61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61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na (x.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R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aware of NA values, as they can “propagate” when you compute operations, producing more NA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pecial Numerical Values: Inf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can generate values that are not real numbers such as positive and negative infin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 / 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1 / 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- In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values are arithmetically operated with the following 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f + 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f / 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0">
              <a:lnSpc>
                <a:spcPct val="100000"/>
              </a:lnSpc>
              <a:spcAft>
                <a:spcPts val="20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orkspace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kspace is the collection of all the objects you have created in a specific R s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list all objects in your work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s 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remove object(s) from the work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m 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m (x.n, y.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remove all objects in the work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m (list = ls (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ave the Workspace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save all objects in your workspace, for use in another session, either using the GUI or using the comm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ve 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file =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ve (x.n, y.n, file = "ws_xn.RData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ve.image (file =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ve.image (file = "ws_all.RData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ve.image saves all ob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orking directory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d that the workspace will be saved to a file located in the current working direc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change the working directory use the GUI or the following com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wd 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wd ("C:\Users\Daniele\Documents\Data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check what’s the current working directo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etwd 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ector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object composed of an ordered collection of element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f the same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v &lt;- c (1943, 1940, 1942, 194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 &lt;- c ("George", "John", "Paul", "Ringo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x.nv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numer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x.chv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charac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(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is the concatenation command, that you can use to generate an ordered collection of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or 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or 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us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 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to count the number of vector elem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ector Indexe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ccess a subset of the vector, use indexes: the first element is associated to index 1, etc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 &lt;- c ("George", "John", "Paul", "Ringo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1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"George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3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"Paul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chv &lt;- x.chv[1: 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chv &lt;- x.chv[c (1, 4)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&lt;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i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ector Indexe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ttempt to extract an element that does not exist will produce an 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 &lt;- c ("George", "John", "Paul", "Ringo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5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you will be able to assign a  value to a position that does not exist y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5] &lt;- "The Walrus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If, doing so, you skip positions that have no values assigned, NA values will be gener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7] &lt;- "The Eggman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6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ector Indexe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ctor elements can also be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textual labels associated to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vectors of logical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only elements with a corresponding true value will be extrac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56"/>
          <p:cNvSpPr/>
          <p:nvPr/>
        </p:nvSpPr>
        <p:spPr>
          <a:xfrm>
            <a:off x="0" y="2514600"/>
            <a:ext cx="6172200" cy="4343400"/>
          </a:xfrm>
          <a:prstGeom prst="rect">
            <a:avLst/>
          </a:prstGeom>
          <a:solidFill>
            <a:srgbClr val="4f81bd">
              <a:alpha val="18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itle 1"/>
          <p:cNvSpPr/>
          <p:nvPr/>
        </p:nvSpPr>
        <p:spPr>
          <a:xfrm>
            <a:off x="60480" y="365040"/>
            <a:ext cx="6019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egoe UI"/>
              </a:rPr>
              <a:t>Module 1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egoe UI"/>
              </a:rPr>
              <a:t>Introduction to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884160" y="1749600"/>
            <a:ext cx="5192640" cy="768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Rlogo_HighRes.png"/>
          <p:cNvPicPr/>
          <p:nvPr/>
        </p:nvPicPr>
        <p:blipFill>
          <a:blip r:embed="rId2"/>
          <a:stretch/>
        </p:blipFill>
        <p:spPr>
          <a:xfrm>
            <a:off x="1066680" y="3048120"/>
            <a:ext cx="4419720" cy="33526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UofTlogo.gif"/>
          <p:cNvPicPr/>
          <p:nvPr/>
        </p:nvPicPr>
        <p:blipFill>
          <a:blip r:embed="rId3"/>
          <a:stretch/>
        </p:blipFill>
        <p:spPr>
          <a:xfrm>
            <a:off x="6419880" y="2666880"/>
            <a:ext cx="2495520" cy="8953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DonnellyCentre_logo.jpg"/>
          <p:cNvPicPr/>
          <p:nvPr/>
        </p:nvPicPr>
        <p:blipFill>
          <a:blip r:embed="rId4"/>
          <a:srcRect l="4625" t="0" r="0" b="0"/>
          <a:stretch/>
        </p:blipFill>
        <p:spPr>
          <a:xfrm>
            <a:off x="6248520" y="3660840"/>
            <a:ext cx="2895480" cy="834840"/>
          </a:xfrm>
          <a:prstGeom prst="rect">
            <a:avLst/>
          </a:prstGeom>
          <a:ln w="0">
            <a:noFill/>
          </a:ln>
        </p:spPr>
      </p:pic>
      <p:sp>
        <p:nvSpPr>
          <p:cNvPr id="265" name="TextBox 9"/>
          <p:cNvSpPr/>
          <p:nvPr/>
        </p:nvSpPr>
        <p:spPr>
          <a:xfrm>
            <a:off x="6248520" y="4800600"/>
            <a:ext cx="281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Post-doctoral Fe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Donnelly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University of Toro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http://baderlab.org/DanieleMer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ogical Indexe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elements with a corresponding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ue valu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ll be extrac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v &lt;- c (1: 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v[x1.nv &gt; 2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3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v &lt;- c (1: 2, NA, 0, 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v[!is.na (x2.nv)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 2 0 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ch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ransforms logical vectors into numerical index ve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ch (!is.na (x2.nv)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 2 3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atrice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5075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rices and arrays can be regarded as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dimensional extension of ve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for vector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ir elements must all be of the same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have names (matrices: column and row nam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itialize a matrix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62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rix 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co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y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mx &lt;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rix (c (1: 6), ncol = 2, nrow = 3, byrow = 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     [,1] [,2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[1,]    1   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[2,]    3   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[3,]    5   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m (x.mx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3,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x.mx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matri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itialize a matrix 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like for vectors, once a matrix has been initialized, it is not possible to access elements outside the defined dimen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mx &lt;-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trix (c (1: 6), ncol = 2, nrow = 3, byrow = 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mx[3, 3] &lt;-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  <a:ea typeface="Courier New"/>
              </a:rPr>
              <a:t># Error in x.mx[3, 3] &lt;- 7 : subscript out of bou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dd additional rows or columns to an initialized matrix, check out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atrix concatenation op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atrix Indexing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6280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nalogy to vectors, there are different ways to access the matrix el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erical inde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gical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 labels (rownames, colnam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atrix Indexe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6280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atrix element is identified by a pair of inde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mx &lt;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rix (c (1: 6), ncol = 2, nrow = 3, byrow = 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mx[1, 1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mx[1: 2, 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     [,1] [,2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[1,]    1   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[2,]    3   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ownames and Colname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628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mx &lt;-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trix (c (1: 6), ncol = 2, nrow = 3, byrow = 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names (x.mx) &lt;- c ("c1", "c2"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ownames (x.mx) &lt;- c ("r1", "r2", "r3"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mx["r1", 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1 r2 r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1  3  5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x.mx["r1", ]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im (x.mx["r1", ]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NU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Note that by subsetting the matrix to a single dimension the class has changed to (integer) vector, a subtype of numeric v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voiding Matrix to Vector Conversion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, after a subsetting operation, your matrix becomes a vector, be aware that you will lose several features typical of matr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lnames 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ownames 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ll not be available, on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s 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ll be avail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m 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ll be NULL, on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 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ll be avail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void this, use the following op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rix_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drop = F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3.mx &lt;- x.mx [3, 3, drop = F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x33.mx); dim (x33.m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rithmetic Operation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rix and scalar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element of the matrix is operated, using the sca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, subtraction, multiplication, division,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rix and vecto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ector is treated as a matrix with only one row or colum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recycling if requ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rix and matri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ment by element (compatible dimensions requir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rix product (similar to dot produc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atrix Concatenation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rix concatenation enables to add a row or a column to a pre-existing matr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bind 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used to concatenate by row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bind 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used to concatenate by colum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mx &lt;-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trix (c (1: 6), ncol = 3, nrow = 2, byrow = 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bind (x.mx, c (7, 8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     [,1] [,2] [,3] [,4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[1,]    1    2    3    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[2,]    4    5    6    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is R?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gramming langu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ftware environm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statistical computing and graph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handling (input, outpu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rix op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istical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phics (e.g. exploratory statistic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ly specialized data analysis (e.g. microarray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iginally developed (1991-1996) b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obert Gentlem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oss Ihak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the open-source version of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 programming langua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ohn Chamb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Bell Lab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ata.frame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data frame is similar to a matrix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every column can have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ifferent ty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umeric, character, logical, fact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cal data are typically loaded from files as data.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2280" y="15840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ad.table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082520"/>
            <a:ext cx="853452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Read.table is typically used to read tab-, comma- and space-separated files into data.fram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x.df &lt;- read.table (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name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sep = "\t"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header = T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  = ""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ent.char = ""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sAsFactors = 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628560" indent="-179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is the separator character; us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\t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for ta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28560" indent="-179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ead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controls the presence of a column titles in the first r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28560" indent="-179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is a character vector indicating which characters are used to wrap strings that include the separator charac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28560" indent="-179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sAsFacto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controls automatic conversion of character vectors to fa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28560" indent="-179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ent.cha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indicates which character will be interpreted as the beginning of a comment (not read into the data.fram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rite.table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write.table is the “companion” of read table, it is used to write data.frames to tab/space/comma-separated text fil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.table (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x.df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sep = "\t"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col.names = T, row.names = F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  = F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name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l.names row.nam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control whether to print the colnames and rownames; mind that the column of rownames will not have  column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controls whether character vectors will be printed with quote characters (usually avoid this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ata.frame: Initialization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x.df &lt;- data.frame (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c1 = c (1, 2, 3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c2 = c ("a", "b", "c"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c3 = factor (c ("f1", "f2", "f2")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sAsFactors = F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ata.frame Indexing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.frames are internally represented as lists, with the additional constraint that objects must be vectors or factors with equal l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exing follows the rules for 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access column and output vect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[[]]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access column and output vect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access column and output data.fram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x.df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[1] "data.frame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x.df$c1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[1] "numeric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x.df$c2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[1] "character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x.df$c3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[1] "factor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x.df[, "c1"]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[1] "data.frame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ubsetting Data.frame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sing Logical Condition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will often have to subset to the rows of a data.frame that meet given conditions: use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et 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.fr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ogical condi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et (x.df, c1 &gt; 2 | c2 == "b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 c1 c2 c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2  2  b f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3  3  c f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339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the logical condition you can refer to the data.frame columns just by their name (e.g.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1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actor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ors are best used when you hav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tegorical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.e. when you have a collection of values that belong to a discrete set, and the same value can appear multiple ti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tegorical variable: cigarette smoking status (“Status”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tegorical values (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level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: “present”, “past”, “never”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moke.df &lt;- data.frame (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ividual = c ("John", "Bob", "Jack", "Al"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us = factor (c ("present", rep ("past", 2), "never")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sAsFactors =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evels (smoke.df$Statu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able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6280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o count how many times each level occurs in a factor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0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e (smoke.df$Statu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0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# never: 1, past: 2, present: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076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f two factors are present, you can also cross tabulate th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966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x.df &lt;- data.frame (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6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c (rep ("a1", 2), rep ("a2", 2))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6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c (rep ("b1", 1), rep ("b2", 3)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6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6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e (x.df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6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#     B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6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# A    b1 b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6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#   a1  1 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6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#   a2  0  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66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ist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s are ordered collections of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list has a number of slots, which can be accessed by names (i.e. character labels) or by numeric inde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ntent of the slot can be of any class (single value, numeric or character; vector; matrix; list; etc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ral R functions for statistics output a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Line 4"/>
          <p:cNvSpPr/>
          <p:nvPr/>
        </p:nvSpPr>
        <p:spPr>
          <a:xfrm>
            <a:off x="2340000" y="3573360"/>
            <a:ext cx="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2340000" y="3933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2484360" y="3716280"/>
            <a:ext cx="1224000" cy="45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3924360" y="3716280"/>
            <a:ext cx="122400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9"/>
          <p:cNvSpPr/>
          <p:nvPr/>
        </p:nvSpPr>
        <p:spPr>
          <a:xfrm>
            <a:off x="2340000" y="44942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2484360" y="4276800"/>
            <a:ext cx="1224000" cy="45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3924360" y="4276800"/>
            <a:ext cx="122400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1371600" y="3638520"/>
            <a:ext cx="824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ist Example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24000" y="1218960"/>
            <a:ext cx="86407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ls &lt;-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 (Name = "John", Surname = "Locke", Birth_year = 163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$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[1] "John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$Sur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[1] "Locke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$Birth_ye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[1] 163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: Core and Package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 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nguage interpreter (executes R c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 interface (GU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phics term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ite of essential tools for statistics and grap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ributed pack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ized data analysis (e.g. microarrays) or grap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researcher can develop a package and submit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ioconduct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project for the development of genomic data analysis packages (http://www.bioconductor.org/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ccessing List Slot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lot can be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numerical or logical ind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slot name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ls[[2]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ls$Sur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ls[["Surname"]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.ch &lt;- "Surname"; x.ls[[s.ch]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"Locke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ab Assignment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"Forbes_2004.txt" as a data.fr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 the number of categorical values of 'category' colum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 the number of NA values of 'profits' colum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ve the rows with NA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 the subset data to a new 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st the object in the work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ve the object 'Forbes_nna.df' as 'Forbes_nna.RData' work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lutions in the next slides, but try to figure it out yoursel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52280" y="15192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set working directory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bes.df &lt;- read.table (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= "Forbes_2004.txt"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p = "\t", header = T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sAsFactors = 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e (Forbes.df$categor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tna.ix &lt;- which (!is.na (Forbes.df$profits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 (notna.ix) / nrow (Forbes.d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0.997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bes_nna.df &lt;- Forbes.df[notna.ix, 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52280" y="15192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.table (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bes_nna.df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p = "\t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.names = T, row.names = F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 = F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= "Forbes_2004_nna.txt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 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set working directory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ave (Forbes_nna.df, file = "Forbes_nna.RData"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erence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52280" y="12949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 Tutor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cyclismo.org/tutorial/R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baderlab.org/PathwayAnalysisReadings#Lec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 Project H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r-project.org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 Introduction to 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cran.r-project.org/doc/manuals/R-intro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basic manual for R program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 Reference C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cran.r-project.org/doc/contrib/Short-refcard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ter Dalgaard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roductory Statistics with R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prin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 guide to the use of R and fundamental statistical analysi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ore Boo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r-project.org/doc/bib/R-jabref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ow to Install R on Your Own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507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ndows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all 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wnload fr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cran.r-project.org/bin/windows/base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ta users: to avoid pain, install R in a subfolder of your user fol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refer to thi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ttp://cran.r-project.org/bin/windows/base/rw-FAQ.html#Does-R-run-under-Windows-Vista_003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al: install R code edi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wnload Notepad+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sourceforge.net/projects/notepad-plus/files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wnload NppToR (interfaces Notepadd++ and 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sourceforge.net/projects/npptor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ow to Install R on Your Own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50752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c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all 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cran.r-project.org/bin/macosx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 code editor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ust use the built-in 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152280" y="266652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 are on a Coffee Break &amp; Networking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 Programming Style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modes of u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2960" indent="-45576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 a short program (a script), just to analyze som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2960" indent="-45576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 a longer program, which will be used over and over by you and/or other us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is course you will have enough exposure to R to perform (a) but not (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ow to Use R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52280" y="13712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4341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rite R co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85240" indent="-449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the built-in editor or any other text edi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85240" indent="-449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ember to save your code as a .R fil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un R co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the GUI (R-Console) or a UNIX-style term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85240" indent="-449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phics will be generated by the graphics terminal as additional wind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85240" indent="-449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save graphics as files using R c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85240" indent="-449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save data in text format using R c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85240" indent="-449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save data in the internal R representation by saving your 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ork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Most Simple R Session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 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the following R code using the built-in ed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1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"Hello World"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n the R 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1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t-in editor (Win): CTRL+F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1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t-in editor (Mac): APPLE+RETU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1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platform/editor: copy and paste into the R-cons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spcBef>
                <a:spcPts val="700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R_GUI_01.png"/>
          <p:cNvPicPr/>
          <p:nvPr/>
        </p:nvPicPr>
        <p:blipFill>
          <a:blip r:embed="rId1"/>
          <a:stretch/>
        </p:blipFill>
        <p:spPr>
          <a:xfrm>
            <a:off x="304920" y="533520"/>
            <a:ext cx="85518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6:09:27Z</dcterms:created>
  <dc:creator>Michael Stromberg</dc:creator>
  <dc:description/>
  <dc:language>en-US</dc:language>
  <cp:lastModifiedBy>Daniele Merico</cp:lastModifiedBy>
  <dcterms:modified xsi:type="dcterms:W3CDTF">2011-01-13T21:57:00Z</dcterms:modified>
  <cp:revision>629</cp:revision>
  <dc:subject/>
  <dc:title>Slide 1</dc:title>
</cp:coreProperties>
</file>