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4D2DC-6C73-4598-94AC-5D2C3A586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0945E-545C-401E-A912-A5AB421D3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18045-FEC7-4221-9CD6-938FC75F8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2A822-3E30-4ADA-A93F-F73672F22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D4A63-8EDE-451D-B86B-AF95DF2E4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CAF47-8621-4AA6-8D01-E26188461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D4A4-3731-406A-AA53-1F2EC26E8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ACF5D-9A91-4BF1-A662-D132EB9AD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CC651-129E-404B-92A8-80D9B35B2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A95A-CD8D-4215-9776-F17F213DA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13C3-77FD-4EF8-9918-1DC9FFDB3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EB65-8B9A-4563-8951-A0F0A271B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12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68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A6A0-D743-4351-8497-D59AE2D7A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2AD2-20D9-42A9-BF37-084AD1A5F1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65C6-35DE-41DC-87BA-30E809752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F84F-526B-4F42-B46A-6C69C5C10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170D-BA7C-4164-B288-9CDC170E9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46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223B-27F8-4096-9B5D-BB55EC53C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3621-F74D-4FF0-ADFF-E7FED028D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81F5-A936-4E83-B07C-18D4927D7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9669-17B6-468B-8C42-DCF9DD428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7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5AEC5-D1B7-4E0E-8A46-FF37A623E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25/05/2010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aniele Merico, Ph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Live session showing how to use R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(webinar only)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llo Wor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cript using the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 World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the Hello World 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pad++ (Win): CTRL+F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editor (Mac): source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elp Pag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How to access the help page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“if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“if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.search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?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2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ariable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have never programmed, this will take a little bit of thinking before grasping the concept, but once you’ll get started, it will be very straight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athematics, as well as other disciplines, you use symbols to formulate problems in an abstract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x +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 = m *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at a procedure, in wh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read two numbers, corresponding to the two edges of a right-angled triang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ompute the value of the third 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print this value on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ormalize that procedure, you may use the fo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(edge_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(edge_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ge_3 = ((edge_1 ^ 2) + (edge_2 ^ 2)) ^ 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nt (edge_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 have just written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seudo-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it’s reasonably similar to what you would do in a 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^’ are (arithmetic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ad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‘=’ 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are variables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identified by specific variable name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ge_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onceptually related to the abstraction of the problem we are solving or the procedure we are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store a different value every time the program is run, but only a single value at a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value can be input by the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their value can be computed inside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, finally, their value can be output (to the screen, to a file, to the printer, etc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riable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variable you create ha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indicates what general category of value the variable can 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e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haracter)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riable Assignmen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ssignment is use to assign a specific value to a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languages require to first define the type of a variable, and only then assig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is more flexible: you assign the value without previous definition, and the type is inferred autom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umeric Variab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he name suggest, a numeric variable can assume only values that are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.n &lt;- 2 /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.n &lt;- 5 ^ 0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1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troduction to 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haracter Variab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haracter variable can assume strings of text as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_1.ch &lt;- “Paul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_2.ch &lt;- “Ring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more general notion than variable, as an object can be composed of several atomic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o fully understand this, you would require elements of object-oriented programming, which is beyond the goals of this cour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3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Essential Command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inspect the type of an object using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notion 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goes beyond the simple and intuitive definition of type we used before, but to understand it, you require elements of object-oriented programming, which is beyond the goals of this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bject typ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as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utputs the way the object is internally st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of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of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formation provided b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ore low-level, i.e. closer to the inner workings of the computer: you will be mostly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orkspace Object Manipulat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list all objects in your work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s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move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; y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x.n, y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move all objects in the work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list = ls 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Save the Workspac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save all objects in your workspace, for use in another session, either using the GUI or using the com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file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x.n, file = “ws_xn.R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“ws_all.R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e.image saves all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orking directory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 that the workspace will be saved to a file located in the current working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ange the working directory use the GUI or the following com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p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“C:\Users\Daniele\Documents\Data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eck whats the working directory 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wd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irectori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re calle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old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many recent opera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eful Syntax Rul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507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se parts are not r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comment 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Com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Debug this p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ew line separa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 (newli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”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Hello”); print (“worl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“worl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nsole behavio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mplete code lines followed by return will not be interpreted: a new line will be generated with “+” as initial 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 print (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will be able to complete your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 print (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+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  <a:ea typeface="Courier New"/>
              </a:rPr>
              <a:t>[1] "Hello Worl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What is R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R: a programming environment for statistic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ersion of the S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raries for data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al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s for further read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n.wikipedia.org/wiki/R_(programming_langu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 Introduction to 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cran.r-project.org/doc/manuals/R-intro.pd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utput to consol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imes you will be printing values of objects to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just typing code on the console and running it, you can simply type the object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a program, you need to use the fo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lso possible to print an object to a file: we will see how to in the second le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Arithmetic opera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anipulate numeric variables, you can use the well-known 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- * 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 +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^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er di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/%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idue of the integer di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%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ading source co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 lear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type and run the code in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use code editor shortcuts to have our code run in the cons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use the comm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(“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 (“script_01.R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lename can also contain the pa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4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Logical Type an Logical Expression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Expressi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write logical expression, which can be evaluated as true or 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ands testing certain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assign the results of such expressions to objects of logical type (true or fal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the next slides for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mparis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/ smaller t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; x2.n &lt;-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&gt;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b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ere, we are comparing two objects of type numeric, x1.n and x2.n; the expression ‘x1.n &gt; x2.n’ is false, hence x.bn will have value FA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omparis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; x2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==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x.b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ere, we are comparing two objects of type numeric, x1.n and x2.n; the expression ‘x1.n == x2.n’ is true, hence x.bn will have value TR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always remember to use ‘==’ and not ‘=’ !!!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Other logical expression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eval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umeric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character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A are values that could not be generated in a computation process; we will see in the following chapter how NAs can be generated when looking for matches; here, just focus on the logical outp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Value Assignmen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ly assign a logic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-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logical_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RUE’ and ‘FALSE’ are reserved names for logical values; as a shortcut, ‘T’ and ‘F’ are objects by default assigned the TRUE and FALSE values; mind that these default values could be overwritte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ical Opera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Operators for single values have a double symbol (single symbol operators are for vec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, OR,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&amp;&amp;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|| 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ow is R used?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odes of use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short program (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ri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just to analyze som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long program, which will be used over and over by you or other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 this course you will have enough exposure to R to perform (a) but not 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umeric-Logical Convers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numeric to log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other numb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.logical (0.01); as.logical (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logical to numer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.numeric (T); as.numeric (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5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issing Values (NA),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finite Values,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Not a Number (NaN)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ot Available Valu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 is a special value that is assigned when it is not possible to have an actu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when, in a vector, some element has not been assigned a value (see next chapter for more detai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N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ware of NA values, as they can “propagate” when you compute operations, producing more NA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next chapter on vectors for their rem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finite Valu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can generate values that are not real numbers such as positive and negative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-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values obey particular rules in arithmetic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x.n + 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ot a Numbe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N value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 a Numb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re generated when there is an indecision between + inf and – i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0/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n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has limited symbolic calculation capabilities, so you will not be able to handle operations between infinite value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mit of a sequ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mathematical analy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f ^ 2 / In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(Inf) / In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6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ecto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composed of an ordered collection of elements of the sam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umer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ch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harac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is the concatenation command, that you can use to generate an ordered collection of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/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ccess to a subset of the vector, use indexes: the first element is associated to index 1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George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Paul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1: 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c (1, 4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Length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ector length is the number of elements assigned to a value in the v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ttempt to extract an element that does not exist will produce an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you will be able to assign a  value to a position that does not exist y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 &lt;- "The Walrus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If, doing so, you skip positions that have no values assigned, NA values will be gener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7] &lt;- "The Eggm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and Microarray Analysi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Why using R for microarray analysis?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several desktop applications that can be used for microarray analysi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y to use (programming skills not requi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amlined analysis work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flex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g time before new “cool” methods are implem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use R, you will be able to customize the analysis for your own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A Values in Vecto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easily replace NA values by using is.na and the logical ind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George", "John", "Paul", "Ringo", "The Walrus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7] &lt;- "The Eggm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is.na (x.chv)] &lt;- "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position 6 was NA, not it’s an empty 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Element Label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ides numeric indexes, you can additionally use labels to retrieve vector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 &lt;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["John"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[c ("Paul", "Ringo")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942,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ector Indexes: Logical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use a logical vector to identify elements of a vector: only positions with value TRUE in the logical vector will be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 &lt;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1940.bn &lt;- beatles.nv == 19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T,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beatles.nv)[which1940.b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John", "Ringo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hese commands are useful to extract the names of the Beatles who were born in 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Regular Vector Generation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nerate a vector composed of repeated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, the second input argument is passed to ‘time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also use ‘each’ for a different repetition pat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repea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times =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ntim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, times = 3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1, 3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: 2, times = 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1,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p (x = 1: 2, each = 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1, 2,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Regular Vector Generation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nerate a regular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q (from = 1, to = 3, by =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q (from = 1, to = 3, length.out =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2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Addition (Subtraction): Scala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calar is an atomic value (as opposed to the vec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dd (subtract) a scalar to a vector, the scalar will be added (subtracted) to (from) every element of the v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x1.nv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Addition (Subtraction): Vecto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ing elements will be ad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hould perform additions (subtractions) between vectors of equ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2.nv &lt;- rep (1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+ x2.n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+1, 2+1, 3+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length is not the same, the shortest vector will be “extended” by “recycling” the elements, starting from the first one (you will also get a warning mess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1.nv &lt;- 1: 3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2.nv &lt;- rep (1, 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3.nv &lt;- y1.nv + y2.n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3, 4, 2,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ultiplication (Division): Scala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for addition and subtraction, every vector element will be multiplied (divided) by the sca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x1.nv *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/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ultiplication (Division): Vector and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for the addition (and subtraction) every corresponding vector element will be multiplied (divid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1: 3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2.nv &lt;- rep (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v &lt;- x1.nv * x2.n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*2, 2*2, 3*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Arithmetic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ot Produc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ot product is a specific operation among vectors, where every corresponding element is multiplied, and then the sum of these multiplications is outp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need vectors of equal si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c (1, 0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c (0, 1,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mx &lt;- x1.nv %*% x2.n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*0 + 0*1 + 2*1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e: the result of this operation is a matrix, an object type we will see in the next p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and Microarray Analysi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Biocondu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conductor is an open source project for computational genomics, based o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n extremely valuable source of analysis and annotation libraries for many different microarray platforms, including Affymetrix, and not restricted to transcripto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will have a closer look later on in the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bioconductor.org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Logical Operator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have already encountered logical operators, for scalar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operators for vectors operate element-by-element, and have a single symbol instead of a doubl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, OR,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T, F, F) &amp; c (T, 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T, F, F) | c (T, 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 (T, F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Numeric Vectors: Other Operation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mathematical operations, such as ^, are applied element-by-e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, 0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^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0,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m, max and min are applied to all values, but they return a single element (for sum, it’s the sum of all vector valu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R Programming (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7 / 7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ector Indexing an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Value Matching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Identity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used to check if two objects ar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dentical (including labels and other attribut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2, 1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2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3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cal (x1.n, x4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Inclusion of elements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in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used to assess if a vector of values matches any of the elements of another vector; it outputs a logical vector of length equal to the first term in the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2, 1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%in%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%in% 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%in% x1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%in% x4.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onverting a logical vector into an index vector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y you have us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in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now you have a logical vector; you ca use this directly to extract corresponding elements, but you can also convert this to an index vector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5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.bn &lt;- x1.n %in%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.ix &lt;- which (x1.n %in% x2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takes a little of experience to figure out which one fits you at b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Indexing, logicals, logical operato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use logical operators to build more elaborate logical 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c (1, 5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c (1, 2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1.n %in% x2.n) | (x1.n %in% x3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T,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1.n %in% x2.n) &amp; (x1.n %in% x3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, F,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9144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Value Matching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184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46fd5"/>
                </a:solidFill>
                <a:latin typeface="Calibri"/>
              </a:rPr>
              <a:t>How to compare two vectors? Matching</a:t>
            </a:r>
            <a:endParaRPr b="0" lang="en-US" sz="3000" spc="-1" strike="noStrike">
              <a:solidFill>
                <a:srgbClr val="446fd5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want to know in what order the elements of a vector (query) appear in another vector (template)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outputs an 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template_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1e7e00"/>
                </a:solidFill>
                <a:latin typeface="Courier New"/>
                <a:ea typeface="Courier New"/>
              </a:rPr>
              <a:t>query_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.n &lt;- c (1, 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 &lt;- c (5, 1, 3,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x3.n, x4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4.n[match (x3.n, x4.n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,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d that NAs will be generated every time you don’t have a mat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x4.n, x3.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2, 1, NA, N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stall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Windows Use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ran.r-project.org/bin/windows/bas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t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void pain, install R in a subfolder of your user fo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refer to thi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ttp://cran.r-project.org/bin/windows/base/rw-FAQ.html#Does-R-run-under-Windows-Vista_003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stall R code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 Notepad+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ourceforge.net/projects/notepad-plus/file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 NppToR (interfaces Notepadd++ and 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ourceforge.net/projects/npptor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Install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Mac User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ran.r-project.org/bin/macosx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code edit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default one, no need to install another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Using R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46fd5"/>
                </a:solidFill>
                <a:latin typeface="Calibri"/>
              </a:rPr>
              <a:t>Code and run</a:t>
            </a:r>
            <a:endParaRPr b="0" lang="en-US" sz="2800" spc="-1" strike="noStrike">
              <a:solidFill>
                <a:srgbClr val="446fd5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typically write a script, or a longer program, using a R code ed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ce you deem the program complete, you will run it, visualizing its output on the GUI console and/or graphics term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UI console: space where you can (1) write and run code, (2) visualize 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ics terminal: used for plots and simi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also be able to output to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also save the 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ork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 the internal representation of the objects you are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45:01Z</dcterms:created>
  <dc:creator>Jagadish Rangrej</dc:creator>
  <dc:description/>
  <dc:language>en-US</dc:language>
  <cp:lastModifiedBy>Daniele Merico</cp:lastModifiedBy>
  <dcterms:modified xsi:type="dcterms:W3CDTF">2010-10-12T22:14:38Z</dcterms:modified>
  <cp:revision>159</cp:revision>
  <dc:subject/>
  <dc:title>Introduction to R</dc:title>
</cp:coreProperties>
</file>