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A4D25-9F26-402F-9132-23D006C3C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91971-F9D1-4F98-85E5-A00FFE557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3062F-C4B9-4577-BB96-53817CB52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D7A6E-44E9-43A6-BE2E-E38042610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726E8-57E3-43F4-B3B2-218DA42D3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3F408-8128-452A-8FDE-C3413EF51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A4E77-79C2-440C-AD1D-1AAE76D82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66549-2ECF-4695-8CDB-38B245593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FEE82-1AC7-43BD-BCF1-0C16AB04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D9A4-1CD5-44F2-825B-C5DE91AB7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26C4-DDC6-435B-9201-50CBFC37F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6564A-C4F4-4D46-8657-2702E1BB8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E1D9B-F11B-4ED2-9C42-561C22F64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D3D2C-5F73-49CD-ADFF-DC4E4533D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BA95-B3F1-44C5-BAC5-A52D1E22D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2/13/1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BCB1-7719-4F5E-9E32-723B02C53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D75C-7A4B-4CB1-99D3-678F4851C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7F76-A37A-4DEF-8AFB-3D386A086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C548-53A7-4361-8C48-70E3C4304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12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680" y="12189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12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680" y="3580560"/>
            <a:ext cx="26470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33C0-8C35-4FAB-B596-0A57E2B76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5F00-49D4-41B1-A922-9C58FC921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59CB-8A06-485D-8211-017FD836A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3E12-E0CC-478A-B528-5C08326EB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F488-C7DD-4C28-BB1A-9AEFBE82B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46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8530-5792-4F34-81EF-93FC34D74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0F18-7CA2-492E-86DD-C5E7844AD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35805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E943-9C8E-4A31-AA8A-9DFF8229D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18960"/>
            <a:ext cx="40118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80560"/>
            <a:ext cx="8221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9046-42EE-46BB-AFCE-B0AA65054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7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54CDA-77CF-4F9C-831D-B026C80AE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Express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01/07/2010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aniele Merico, Ph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164120"/>
            <a:ext cx="36003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Integral of the distribution function for t ≤ t(gi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Probability to observe t(gi) under the null hypothes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P-val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3908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522600"/>
            <a:ext cx="2843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-value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an also be interpreted as the probability to make a mistake when rejecting the Null Hypothesis in favor of th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ternative Hypothesi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 this case, C1 &gt; C2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 want low p-valu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&lt; 0.0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000"/>
            </a:b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trength-of-change vs Test Statistic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measure of strength of the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s on the means of classes, therefore it is unable to formally account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a test statistics, based on the statistical theory of inference, and specifically on hypothesis te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ly accounts f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certain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class mean esti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in a p-value, the probability of making a mistake when rejecting the null hypothesis (i.e. no change in expression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rrespond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gnificant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not a measure of change strength, although strong change, if consistent across samples, results in a very low p-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i="1" lang="en-US" sz="4400" spc="-1" strike="noStrike">
                <a:solidFill>
                  <a:srgbClr val="ce0000"/>
                </a:solidFill>
                <a:latin typeface="Calibri"/>
              </a:rPr>
              <a:t>moderated</a:t>
            </a: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 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blem with the t-test is the insufficient number of replicates in the usual microarray study (3-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vercome this problem, several modified t-statistics, usually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rated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have been int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either define a minimal variation coefficient, or otherwise exploit the availability of many gene expression levels to better estimate single gene 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utilize the moderated t defined in the Bioconductor packa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m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ultiple Test Correctio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et’s assume we run 1000 tests for differential expression, and we find gene g1 with p-value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apparently, that gene is significantly differentia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if we have a probability of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to obtain a t as extreme or more extreme than t (g1) under the null hypothesis, how many do you expect to find on 1000 test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actly 1 (= 1000 *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refore, a gene with p-value = 1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may well be a false posi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problem is addressed by multiple test correction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us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enjamini-Hochber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orrection, which outputs the false discovery rate (FDR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DR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the fraction of false positives you expect to have when selecting all genes with p-value &lt; p-value (g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differential expression at 12h of Estrogen Treatment data-set, treated vs unt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ta needed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s.pData, es_log2.m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h.df &lt;- pData (es.pDat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2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tr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_c1.ix &lt;- match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ph.df)[es_ph.df$Time == "12h"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s_ph.df$Trtm == "unt"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log2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simple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63680"/>
            <a:ext cx="741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mpute a signed index = log2 (p-value) * sign (t), no mult. cor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 &lt;- function (input.nv, c1.ix, c2.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.htest &lt;- t.test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put.nv[c2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input.nv[c1.ix]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= "two.sided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pv.n &lt;- - log10 (t.htest$p.value) *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 (t.htest$statisti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logpv.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pv.nv &lt;- apply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log2.mx, 1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.t_tes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1.ix = s_c1.ix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2.ix = s_c2.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1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46fd5"/>
                </a:solidFill>
                <a:latin typeface="Calibri"/>
              </a:rPr>
              <a:t>Limma HowTo</a:t>
            </a:r>
            <a:endParaRPr b="0" lang="en-US" sz="2800" spc="-1" strike="noStrike">
              <a:solidFill>
                <a:srgbClr val="446fd5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design model matrix, giving in input all the possible factor combinations corresponding to classes (every class can be regarded as a combination of specific factor levels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a linear 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fine a contrast matrix, defining which classes you want to compare using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t the eBayes model for the moderated t-te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enerate the t-test p-value corrected by BH, and other statist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Estrogen Treatment Differential Expression </a:t>
            </a:r>
            <a:br>
              <a:rPr sz="3600"/>
            </a:br>
            <a:r>
              <a:rPr b="0" lang="en-US" sz="3600" spc="-1" strike="noStrike">
                <a:solidFill>
                  <a:srgbClr val="ce0000"/>
                </a:solidFill>
                <a:latin typeface="Calibri"/>
              </a:rPr>
              <a:t>limma moderated t-test</a:t>
            </a:r>
            <a:endParaRPr b="0" lang="en-US" sz="36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lim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actors.chv &lt;- paste (es_ph.df$Trtm, es_ph.df$Time, sep = "_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el_1.mx &lt;- model.matrix (~ 0 + 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model_1.mx) &lt;- levels (factor (es_factors.chv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es_model_1.mx) &lt;- rownames (es_ph.d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1.lm &lt;- lmFit (es.eSet,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.contras &lt;- makeContrasts (trt_12h-unt_12h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= es_model_1.m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contrasts.fit (es_fit_1.lm, es.contr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 &lt;- eBayes (es_fit_2.l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 &lt;- topTable 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fit_2.lm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row (es_log2.mx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djust = "BH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2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Symbol Conversion and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Annotat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1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Differential Statistics 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for gene expression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Affymetrix and Other Identifier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identifiers correspond to the sets of probes physically present on the microarray and aimed at the same molecula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probe design was based on Unigene clusters of full or partial transcribed seq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licing variants, and other transcriptional variants cannot be systematically distingu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ymetrix unit to gene is sometimes one-to-one, sometimes many-to-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se cases we will take only the most differential probe-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NCBI EntrezGene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favorite database for gene annotation is NCBI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: gene (one or more transcrip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ized functional annotations (Gene Ontology) are bas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D systems (e.g. UniProt) can be easily mapped on Entrez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onvert Affymetrix ID to Entrez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onductor has annotation libraries with data derived from EntrezGene, using the EntrezGene ID as 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mbol, full name, chromosome, genomic coordinates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Conversion Affymetrix &gt; EntrezGene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8480" y="1218960"/>
            <a:ext cx="73551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Affy to entrez-gene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hgu133plus2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affy2eg.chv &lt;- unlist (as.list (hgu133plus2ENTREZID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Courier New"/>
                <a:ea typeface="Courier New"/>
              </a:rPr>
              <a:t># Entrez-gene to other annotations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rary (org.Hs.eg.db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 &lt;- unlist (as.list (org.Hs.egSYMBOL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 &lt;- unlist (as.list (org.Hs.egGENENAME))</a:t>
            </a: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Adding Symbols and Full name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3080" y="1052640"/>
            <a:ext cx="7344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Pruning redundant Affys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.eg   &lt;- Ann_affy2eg.chv[es_modt.df$ID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Affy &lt;- es_modt.df$ID[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duplicated (all.eg) &amp;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is.na (all.eg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   &lt;- Ann_affy2eg.chv[sel.Affy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  <a:ea typeface="Courier New"/>
              </a:rPr>
              <a:t># Assembling final data.frame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stats_ann.df &lt;- cbind (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$ID[match (sel.Affy, es_modt.df$ID)]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.eg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sy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_eg2name.chv[sel.eg],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_modt.df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 (sel.Affy, es_modt.df$ID),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: ncol (es_modt.df)]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es_stats_ann.df)[1: 4] &lt;- 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("ID_Affy", "ID_Eg", "Symbol", "Name"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all.eg, sel.Affy)</a:t>
            </a:r>
            <a:endParaRPr b="0" lang="en-US" sz="16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Microarray Data Analysis (II)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Part 3 / 3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Gene profile visualization: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46fd5"/>
                </a:solidFill>
                <a:latin typeface="Calibri"/>
              </a:rPr>
              <a:t>Heat-maps</a:t>
            </a:r>
            <a:endParaRPr b="0" lang="en-US" sz="3200" spc="-1" strike="noStrike">
              <a:solidFill>
                <a:srgbClr val="446fd5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Heat Map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36436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18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Maps are used to visualize gene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 levels are represented as colors, and this requires data transformations (discussed in the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s (and sample) are grouped using hierarchical clust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pace limits it is common to visualize genes that pass given differentiality thresholds (t-test p-value, logratio, P calls) and/or restricting to specific functional categ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8646" b="0"/>
          <a:stretch/>
        </p:blipFill>
        <p:spPr>
          <a:xfrm>
            <a:off x="34920" y="1197000"/>
            <a:ext cx="417672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Data Transformations for Heat Maps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6407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inear expression signals span many orders of magnit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Solu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ubtracting mean and divide by standard deviation for every gene (row of the expression matr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K for time course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bscures differentiality in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ivide all values by the mean of a common reference class (log2 rat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two-class des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ood for multi-class where a class can work as common 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ften requires setting an upper and lower saturation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e0000"/>
                </a:solidFill>
                <a:latin typeface="Calibri"/>
              </a:rPr>
              <a:t>Similarity Indexes for Gene Clustering</a:t>
            </a:r>
            <a:endParaRPr b="0" lang="en-US" sz="40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untransformed data, the best solution is to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arson Corre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ased similarity on log2 (or linear) expression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ails were already discussed in lesson 4 for sample hierarchical clus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working on log2ratio you should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based simi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Heat Maps in this course…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be using a Cytoscape plugin for microarray data exploration where heat maps are implemented with mean, standard deviation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still be able to upload a pre-transformed matrix (e.g. using the common reference) and use no further trans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ault similarity index used in the plugin is pearson cor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lan adding the cosine index, that’s better suited to common reference log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se you want to use R, please refer 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tmap {stats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 Statistics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we have the expression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s x Samples, signal related to transcrip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to identify which gene have an interesting behavior in relation to the experimental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tistical technique used depends on the biological question as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two class desig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1: Control (no estrogen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2: Estroge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questions: which genes are up-regulated or down-regulated after estrogen trea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iality index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2 (ratio of class me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Differentiality for Two-class Design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61" name="Rectangle 69"/>
          <p:cNvSpPr/>
          <p:nvPr/>
        </p:nvSpPr>
        <p:spPr>
          <a:xfrm>
            <a:off x="1906560" y="1838160"/>
            <a:ext cx="1152720" cy="2305080"/>
          </a:xfrm>
          <a:prstGeom prst="rect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3060720" y="1838160"/>
            <a:ext cx="1152360" cy="230508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ine 71"/>
          <p:cNvSpPr/>
          <p:nvPr/>
        </p:nvSpPr>
        <p:spPr>
          <a:xfrm>
            <a:off x="1908000" y="20541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Line 72"/>
          <p:cNvSpPr/>
          <p:nvPr/>
        </p:nvSpPr>
        <p:spPr>
          <a:xfrm>
            <a:off x="2268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Line 73"/>
          <p:cNvSpPr/>
          <p:nvPr/>
        </p:nvSpPr>
        <p:spPr>
          <a:xfrm>
            <a:off x="2482920" y="18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Line 74"/>
          <p:cNvSpPr/>
          <p:nvPr/>
        </p:nvSpPr>
        <p:spPr>
          <a:xfrm>
            <a:off x="1908000" y="22716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Line 75"/>
          <p:cNvSpPr/>
          <p:nvPr/>
        </p:nvSpPr>
        <p:spPr>
          <a:xfrm>
            <a:off x="341964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Line 76"/>
          <p:cNvSpPr/>
          <p:nvPr/>
        </p:nvSpPr>
        <p:spPr>
          <a:xfrm>
            <a:off x="363528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Line 77"/>
          <p:cNvSpPr/>
          <p:nvPr/>
        </p:nvSpPr>
        <p:spPr>
          <a:xfrm>
            <a:off x="3060720" y="22716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78"/>
          <p:cNvSpPr/>
          <p:nvPr/>
        </p:nvSpPr>
        <p:spPr>
          <a:xfrm>
            <a:off x="1908000" y="14065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ression Matri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79"/>
          <p:cNvSpPr/>
          <p:nvPr/>
        </p:nvSpPr>
        <p:spPr>
          <a:xfrm>
            <a:off x="1835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80"/>
          <p:cNvSpPr/>
          <p:nvPr/>
        </p:nvSpPr>
        <p:spPr>
          <a:xfrm>
            <a:off x="3059280" y="4214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-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4572000" y="2776680"/>
            <a:ext cx="503280" cy="485640"/>
          </a:xfrm>
          <a:prstGeom prst="rightArrow">
            <a:avLst>
              <a:gd name="adj1" fmla="val 43787"/>
              <a:gd name="adj2" fmla="val 64727"/>
            </a:avLst>
          </a:prstGeom>
          <a:solidFill>
            <a:srgbClr val="ffff2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101"/>
          <p:cNvSpPr/>
          <p:nvPr/>
        </p:nvSpPr>
        <p:spPr>
          <a:xfrm>
            <a:off x="4714920" y="1125360"/>
            <a:ext cx="230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s Rank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tial Statis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5362560" y="4226040"/>
            <a:ext cx="266544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.g.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2 (ratio of class means)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rated t-te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ther statistic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5364000" y="1838160"/>
            <a:ext cx="1008360" cy="2305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Line 105"/>
          <p:cNvSpPr/>
          <p:nvPr/>
        </p:nvSpPr>
        <p:spPr>
          <a:xfrm>
            <a:off x="5940360" y="18381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Line 106"/>
          <p:cNvSpPr/>
          <p:nvPr/>
        </p:nvSpPr>
        <p:spPr>
          <a:xfrm>
            <a:off x="5364000" y="20541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07"/>
          <p:cNvSpPr/>
          <p:nvPr/>
        </p:nvSpPr>
        <p:spPr>
          <a:xfrm>
            <a:off x="5364000" y="22716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110"/>
          <p:cNvSpPr/>
          <p:nvPr/>
        </p:nvSpPr>
        <p:spPr>
          <a:xfrm>
            <a:off x="6588000" y="19112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112"/>
          <p:cNvSpPr/>
          <p:nvPr/>
        </p:nvSpPr>
        <p:spPr>
          <a:xfrm>
            <a:off x="6659640" y="1838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113"/>
          <p:cNvSpPr/>
          <p:nvPr/>
        </p:nvSpPr>
        <p:spPr>
          <a:xfrm>
            <a:off x="6659640" y="38782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Log2 (ratio of class means)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16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i, C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the set of expression values of the i-th gene in class C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 me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ake the means of the two class, divide them, and use the log- transform to make up- and down-regulation symmetr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4360" y="1836720"/>
                <a:ext cx="45705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556080"/>
            <a:ext cx="82216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LRCM, the t-statistic takes into account the variability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2800" indent="-255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-statistic has a theoretically known distribution corresponding to the null hypothesis (no change); this distribution is exploited for th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1647720"/>
                <a:ext cx="50590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46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wo-class Design: </a:t>
            </a:r>
            <a:br>
              <a:rPr sz="4400"/>
            </a:br>
            <a:r>
              <a:rPr b="0" lang="en-US" sz="4400" spc="-1" strike="noStrike">
                <a:solidFill>
                  <a:srgbClr val="ce0000"/>
                </a:solidFill>
                <a:latin typeface="Calibri"/>
              </a:rPr>
              <a:t>t-test</a:t>
            </a:r>
            <a:endParaRPr b="0" lang="en-US" sz="4400" spc="-1" strike="noStrike">
              <a:solidFill>
                <a:srgbClr val="ce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17840" y="14457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4624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1768320"/>
            <a:ext cx="5545440" cy="1536840"/>
          </a:xfrm>
          <a:custGeom>
            <a:avLst/>
            <a:gdLst/>
            <a:ahLst/>
            <a:rect l="l" t="t" r="r" b="b"/>
            <a:pathLst>
              <a:path w="3493" h="968">
                <a:moveTo>
                  <a:pt x="0" y="968"/>
                </a:moveTo>
                <a:cubicBezTo>
                  <a:pt x="434" y="926"/>
                  <a:pt x="869" y="885"/>
                  <a:pt x="1134" y="741"/>
                </a:cubicBezTo>
                <a:cubicBezTo>
                  <a:pt x="1399" y="597"/>
                  <a:pt x="1459" y="212"/>
                  <a:pt x="1587" y="106"/>
                </a:cubicBezTo>
                <a:cubicBezTo>
                  <a:pt x="1715" y="0"/>
                  <a:pt x="1776" y="0"/>
                  <a:pt x="1905" y="106"/>
                </a:cubicBezTo>
                <a:cubicBezTo>
                  <a:pt x="2034" y="212"/>
                  <a:pt x="2094" y="597"/>
                  <a:pt x="2359" y="741"/>
                </a:cubicBezTo>
                <a:cubicBezTo>
                  <a:pt x="2624" y="885"/>
                  <a:pt x="3304" y="930"/>
                  <a:pt x="3493" y="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57880" y="3048480"/>
            <a:ext cx="69840" cy="490680"/>
          </a:xfrm>
          <a:prstGeom prst="rtTriangle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535040" y="3317760"/>
            <a:ext cx="503280" cy="144720"/>
          </a:xfrm>
          <a:prstGeom prst="rect">
            <a:avLst/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191628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052640"/>
            <a:ext cx="2665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Distribution of t statistic associated to th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alibri"/>
              </a:rPr>
              <a:t>Null Hypothes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(no change expected between classe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46248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3500280"/>
            <a:ext cx="309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ed value t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egativ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wnregulation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45:01Z</dcterms:created>
  <dc:creator>Jagadish Rangrej</dc:creator>
  <dc:description/>
  <dc:language>en-US</dc:language>
  <cp:lastModifiedBy>Daniele Merico</cp:lastModifiedBy>
  <dcterms:modified xsi:type="dcterms:W3CDTF">2010-07-02T19:37:05Z</dcterms:modified>
  <cp:revision>159</cp:revision>
  <dc:subject/>
  <dc:title>Introduction to R</dc:title>
</cp:coreProperties>
</file>