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6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2/13/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4080" cy="34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72B0FB-D7ED-4DC3-9D06-50F3DF26A2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2/13/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222F29-528F-451A-B0C8-778C537ACC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2/13/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97AA3D-1D95-48E0-A253-D5B2D3BF60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2/13/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086391-CDB7-484C-8B3E-8185F7C529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2/13/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AFF00A-C3E7-4AC7-92AB-D4C5B1CE94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2/13/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17B7D8-3764-4EFD-99EB-4A1F73B296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2/13/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8A58D0-F134-4AB6-88A9-51DDE7409B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2/13/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4C95B0-B608-4905-807D-7D8F4BA733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2/13/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0F24BA-F24E-4E40-ADCF-1B6AA12F86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1DF48-B9D9-4441-AA16-FA2F1BBD15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580560"/>
            <a:ext cx="8221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6F912-2FF2-47F1-90AA-1639FC247F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18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9920" y="1218960"/>
            <a:ext cx="40118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80560"/>
            <a:ext cx="40118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9920" y="3580560"/>
            <a:ext cx="40118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E7C9B-30B6-4E1F-A64B-B43844510F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70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7120" y="1218960"/>
            <a:ext cx="26470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6680" y="1218960"/>
            <a:ext cx="26470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580560"/>
            <a:ext cx="26470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7120" y="3580560"/>
            <a:ext cx="26470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6680" y="3580560"/>
            <a:ext cx="26470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F8403-5CF4-43B4-BF1C-CFD4AC2D06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682C1-D277-4E31-92A9-555B64C775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14FE5-1B0A-4FD8-8378-9DC40031E2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18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9920" y="1218960"/>
            <a:ext cx="40118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08159-FF21-4765-8BB9-52E3197D3A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E3AB5-4E9A-4BD5-84BC-0D53698014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46080"/>
            <a:ext cx="8221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69AD6-322C-40D5-A26D-DD679D5D6D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18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9920" y="1218960"/>
            <a:ext cx="40118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580560"/>
            <a:ext cx="40118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44488-3FAC-4480-9F0E-78F9AED19B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18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920" y="1218960"/>
            <a:ext cx="40118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9920" y="3580560"/>
            <a:ext cx="40118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DC267-BF92-4A72-9BC1-A4CA2B4BD1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18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9920" y="1218960"/>
            <a:ext cx="40118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580560"/>
            <a:ext cx="8221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03C38-5C1C-4C78-B1C8-2ED5B2B915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5715000"/>
            <a:ext cx="9144000" cy="1170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09920" y="0"/>
            <a:ext cx="21258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C9FCA3-DBF3-4B19-9C79-DA2C2724F3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R Programming (I)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25/05/2010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Daniele Merico, PhD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Using R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Live session showing how to use R 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(webinar only)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en 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rite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Hello Worl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cript using the edi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(“Hello World”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un the Hello World scri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epad++ (Win): CTRL+F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 editor (Mac): source docu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Help Pages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How to access the help pages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-match help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p (“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keywor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”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p (“if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?“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keywor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”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?“if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ple-match help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p.search (“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keywor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”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??“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keywor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R Programming (I)</a:t>
            </a:r>
            <a:br>
              <a:rPr sz="4400"/>
            </a:b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Part 2 / 7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Variables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What are variables?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you have never programmed, this will take a little bit of thinking before grasping the concept, but once you’ll get started, it will be very straightforw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mathematics, as well as other disciplines, you use symbols to formulate problems in an abstract w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 = x +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 = m *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What are variables?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nk at a procedure, in whi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read two numbers, corresponding to the two edges of a right-angled triang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compute the value of the third ed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print this value on the scre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What are variables?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168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formalize that procedure, you may use the follow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ad (edge_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ad (edge_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dge_3 = ((edge_1 ^ 2) + (edge_2 ^ 2)) ^ 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nt (edge_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we have just written is call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seudo-cod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it’s reasonably similar to what you would do in a programming langu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‘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^’ are (arithmetic)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ead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ri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‘=’ ar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mma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dge_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dge_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dge_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r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What are variables?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50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riabl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identified by specific variable names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dge_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conceptually related to the abstraction of the problem we are solving or the procedure we are execu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store a different value every time the program is run, but only a single value at a 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ir value can be input by the us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 their value can be computed inside the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, finally, their value can be output (to the screen, to a file, to the printer, etc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Variable Type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variable you create has a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ype indicates what general category of value the variable can ta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mer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character) st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Variable Assignment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ssignment is use to assign a specific value to a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n &lt;- 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valu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n &lt;-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buClr>
                <a:srgbClr val="000000"/>
              </a:buClr>
              <a:buFont typeface="Times New Roman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ther languages require to first define the type of a variable, and only then assign a val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buClr>
                <a:srgbClr val="000000"/>
              </a:buClr>
              <a:buFont typeface="Times New Roman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 is more flexible: you assign the value without previous definition, and the type is inferred automatic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Numeric Variables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the name suggest, a numeric variable can assume only values that are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n &lt;-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y.n &lt;- 2 /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z.n &lt;- 5 ^ 0.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R Programming (I)</a:t>
            </a:r>
            <a:br>
              <a:rPr sz="4400"/>
            </a:b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Part 1 / 7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Introduction to R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Character Variables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character variable can assume strings of text as val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atles_1.ch &lt;- “Paul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atles_2.ch &lt;- “Ringo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Objects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bj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 more general notion than variable, as an object can be composed of several atomic vari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o fully understand this, you would require elements of object-oriented programming, which is beyond the goals of this cour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R Programming (I)</a:t>
            </a:r>
            <a:br>
              <a:rPr sz="4400"/>
            </a:b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Part 3 / 7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Essential Commands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Object type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can inspect the type of an object using the comm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las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(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objec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n &lt;-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(x.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he notion 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ss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goes beyond the simple and intuitive definition of type we used before, but to understand it, you require elements of object-oriented programming, which is beyond the goals of this cour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Object type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reas the comm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ypeo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utputs the way the object is internally sto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of (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objec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n &lt;-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of (x.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information provided by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ypeo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more low-level, i.e. closer to the inner workings of the computer: you will be mostly using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Workspace Object Manipulation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list all objects in your worksp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ls 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remove an ob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m (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object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n &lt;- 1; y.n &lt;-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m (x.n, y.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remove all objects in the worksp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m (list = ls (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Save the Workspace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can save all objects in your workspace, for use in another session, either using the GUI or using the comm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ve (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object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file = 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filenam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ve (x.n, file = “ws_xn.RData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ve.image (file = 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filenam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ve.image (file = “ws_all.RData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ve.image saves all 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Working directory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16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nd that the workspace will be saved to a file located in the current working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change the working directory use the GUI or the following comm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wd (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path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wd (“C:\Users\Daniele\Documents\Data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check whats the working directory us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getwd 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Directori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re called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folder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n many recent operating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Useful Syntax Rules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5075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 i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ase sensi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ommen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these parts are not ru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the comment sig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Comme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Debug this pa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ew line separat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turn (newlin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(“Hello”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(“Hello”); print (“world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(“world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Console behavior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omplete code lines followed by return will not be interpreted: a new line will be generated with “+” as initial charac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&gt; print ("Hello World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+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will be able to complete your co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&gt; print ("Hello World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+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  <a:ea typeface="Courier New"/>
              </a:rPr>
              <a:t>[1] "Hello World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What is R?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628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R: a programming environment for statistics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atur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gramming langu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Open sour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version of the S langu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braries for data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phical facil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nks for further reading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en.wikipedia.org/wiki/R_(programming_languag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n Introduction to 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(cran.r-project.org/doc/manuals/R-intro.pdf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Output to console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y times you will be printing values of objects to the conso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you are just typing code on the console and running it, you can simply type the object n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in a program, you need to use the follow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(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objec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n &lt;-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(x.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also possible to print an object to a file: we will see how to in the second less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Arithmetic operators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1680" cy="49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manipulate numeric variables, you can use the well-known arithmetic op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+ - * /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n &lt;- 1 +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addi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n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^ 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n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ger divi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n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%/% 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n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idue of the integer divi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n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%% 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n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Loading source code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have lear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to type and run the code in the conso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to use code editor shortcuts to have our code run in the conso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can also use the comm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ource (“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filenam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”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ource (“script_01.R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filename can also contain the pat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R Programming (I)</a:t>
            </a:r>
            <a:br>
              <a:rPr sz="4400"/>
            </a:b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Part 4 / 7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Logical Type an Logical Expressions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Logical Expressions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can write logical expression, which can be evaluated as true or fal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aris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ands testing certain proper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can also assign the results of such expressions to objects of logical type (true or fal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e the next slides for examp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Comparisons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50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eater / smaller th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value/objec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value/ob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value/objec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value/ob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value/objec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 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value/ob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value/objec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= 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value/ob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1.n &lt;- 2; x2.n &lt;-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bn &lt;- x1.n &gt; x2.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(x.b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here, we are comparing two objects of type numeric, x1.n and x2.n; the expression ‘x1.n &gt; x2.n’ is false, hence x.bn will have value FAL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Comparisons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1680" cy="49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qual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value/objec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== 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value/ob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1.n &lt;- 2; x2.n &lt;-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bn &lt;- x1.n == x2.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(x.b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300" spc="-1" strike="noStrike">
                <a:solidFill>
                  <a:srgbClr val="000000"/>
                </a:solidFill>
                <a:latin typeface="Calibri"/>
              </a:rPr>
              <a:t>here, we are comparing two objects of type numeric, x1.n and x2.n; the expression ‘x1.n == x2.n’ is true, hence x.bn will have value TRU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300" spc="-1" strike="noStrike">
                <a:solidFill>
                  <a:srgbClr val="000000"/>
                </a:solidFill>
                <a:latin typeface="Calibri"/>
              </a:rPr>
              <a:t>always remember to use ‘==’ and not ‘=’ !!!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Other logical expressions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ss evalu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s.numeric (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value/objec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s.character (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value/objec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lue evalu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s.na (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value/objec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NA are values that could not be generated in a computation process; we will see in the following chapter how NAs can be generated when looking for matches; here, just focus on the logical outpu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Logical Value Assignment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1680" cy="49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rectly assign a logical val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objec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- 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logical_val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bn &lt;- 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bn &lt;- TR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bn &lt;- 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bn &lt;- FAL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TRUE’ and ‘FALSE’ are reserved names for logical values; as a shortcut, ‘T’ and ‘F’ are objects by default assigned the TRUE and FALSE values; mind that these default values could be overwritten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Logical Operators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1680" cy="49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gical Operators for single values have a double symbol (single symbol operators are for vector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, OR, NO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 &amp;&amp; 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 &amp;&amp; 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 &amp;&amp; 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 || 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 || 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 || 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!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!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How is R used?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628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Modes of use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rite a short program (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crip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, just to analyze some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rite a long program, which will be used over and over by you or other us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n this course you will have enough exposure to R to perform (a) but not (b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Numeric-Logical Conversion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ing from numeric to logic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AL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y other numbe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R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s.logical (0.01); as.logical (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ing from logical to numeric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s.numeric (T); as.numeric (F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R Programming (I)</a:t>
            </a:r>
            <a:br>
              <a:rPr sz="4400"/>
            </a:b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Part 5 / 7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Missing Values (NA), 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Infinite Values, 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Not a Number (NaN)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Not Available Value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 is a special value that is assigned when it is not possible to have an actual val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ample: when, in a vector, some element has not been assigned a value (see next chapter for more detail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n &lt;- NA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Aft>
                <a:spcPts val="2001"/>
              </a:spcAft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s.na (x.n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aware of NA values, as they can “propagate” when you compute operations, producing more NA val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e next chapter on vectors for their remov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Infinite Values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 can generate values that are not real numbers such as positive and negative infini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1 / 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In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Aft>
                <a:spcPts val="2001"/>
              </a:spcAft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-1 / 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- In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se values obey particular rules in arithmetic oper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1.n &lt;- 1 / 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In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2.n &lt;- x.n + 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In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Aft>
                <a:spcPts val="2001"/>
              </a:spcAft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Not a Number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N values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ot a Numb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are generated when there is an indecision between + inf and – in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n &lt;- 0/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N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s.nan (x.n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s.na (x.n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 has limited symbolic calculation capabilities, so you will not be able to handle operations between infinite values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imit of a sequen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 mathematical analysi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f ^ 2 / In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N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log (Inf) / In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N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R Programming (I)</a:t>
            </a:r>
            <a:br>
              <a:rPr sz="4400"/>
            </a:b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Part 6 / 7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Vectors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Vectors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52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ect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n object composed of an ordered collection of elements of the same 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nv &lt;- c (1943, 1940, 1942, 194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chv &lt;- c ("George", "John", "Paul", "Ringo"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(x.nv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numer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(x.chv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charac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 (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is the concatenation command, that you can use to generate an ordered collection of el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 (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value/objec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value/objec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..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Vector Indexes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168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access to a subset of the vector, use indexes: the first element is associated to index 1, etc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chv &lt;- c ("George", "John", "Paul", "Ringo"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chv[1]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"George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chv[3]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"Paul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1.chv &lt;- x.chv[1: 3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1.chv &lt;- x.chv[c (1, 4)]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 &lt;-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chv[i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Vector Length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52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vector length is the number of elements assigned to a value in the vec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nv &lt;- c (1943, 1940, 1942, 194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length (x.nv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Vector Indexes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168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ttempt to extract an element that does not exist will produce an err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chv &lt;- c ("George", "John", "Paul", "Ringo"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chv[5]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ever, you will be able to assign a  value to a position that does not exist y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chv[5] &lt;- "The Walrus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ourier New"/>
              </a:rPr>
              <a:t>If, doing so, you skip positions that have no values assigned, NA values will be generat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chv[7] &lt;- "The Eggman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R and Microarray Analysis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16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Why using R for microarray analysis?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are several desktop applications that can be used for microarray analysis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vantage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sy to use (programming skills not requir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eamlined analysis workfl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advantag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 flexi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g time before new “cool” methods are implemen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you use R, you will be able to customize the analysis for your own nee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NA Values in Vectors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6280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can easily replace NA values by using is.na and the logical index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chv &lt;- c (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"George", "John", "Paul", "Ringo", "The Walrus"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chv[7] &lt;- "The Eggman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chv[is.na (x.chv)] &lt;- "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position 6 was NA, not it’s an empty st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Vector Element Labels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168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sides numeric indexes, you can additionally use labels to retrieve vector el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atles.nv &lt;- c (1943, 1940, 1942, 194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s (beatles.nv) &lt;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 ("George", "John", "Paul", "Ringo"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atles.nv["John"]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194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atles.nv[c ("Paul", "Ringo")]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1942, 194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Vector Indexes: Logical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168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can also use a logical vector to identify elements of a vector: only positions with value TRUE in the logical vector will be conside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atles.nv &lt;- c (1943, 1940, 1942, 194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s (beatles.nv) &lt;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 ("George", "John", "Paul", "Ringo"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ch1940.bn &lt;- beatles.nv == 194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F, T, F, 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s (beatles.nv)[which1940.bn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"John", "Ringo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These commands are useful to extract the names of the Beatles who were born in 194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46080"/>
            <a:ext cx="9144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e0000"/>
                </a:solidFill>
                <a:latin typeface="Calibri"/>
              </a:rPr>
              <a:t>Regular Vector Generation</a:t>
            </a:r>
            <a:endParaRPr b="0" lang="en-US" sz="40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168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generate a vector composed of repeated el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, the second input argument is passed to ‘times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can also use ‘each’ for a different repetition patter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p (x = 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repeate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_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valu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times = 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ntime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_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valu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p (x = 1, times = 3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1, 1,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p (1, 3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1, 1,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p (x = 1: 2, times = 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1, 2, 1,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p (x = 1: 2, each = 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1, 1, 2,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46080"/>
            <a:ext cx="9144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e0000"/>
                </a:solidFill>
                <a:latin typeface="Calibri"/>
              </a:rPr>
              <a:t>Regular Vector Generation</a:t>
            </a:r>
            <a:endParaRPr b="0" lang="en-US" sz="40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168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generate a regular sequ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q (from = 1, to = 3, by = 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1, 2,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q (from = 1, to = 3, length.out = 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1, 2,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46080"/>
            <a:ext cx="9144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e0000"/>
                </a:solidFill>
                <a:latin typeface="Calibri"/>
              </a:rPr>
              <a:t>Numeric Vectors: Arithmetic Operations</a:t>
            </a:r>
            <a:endParaRPr b="0" lang="en-US" sz="40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168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Addition (Subtraction): Scalar and Vector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calar is an atomic value (as opposed to the vecto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you add (subtract) a scalar to a vector, the scalar will be added (subtracted) to (from) every element of the vec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1.nv &lt;- 1: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2.nv &lt;- x1.nv +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3.nv &lt;- x1.nv -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46080"/>
            <a:ext cx="9144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e0000"/>
                </a:solidFill>
                <a:latin typeface="Calibri"/>
              </a:rPr>
              <a:t>Numeric Vectors: Arithmetic Operations</a:t>
            </a:r>
            <a:endParaRPr b="0" lang="en-US" sz="40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168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Addition (Subtraction): Vector and Vector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rresponding elements will be add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should perform additions (subtractions) between vectors of equal leng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1.nv &lt;- 1: 3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2.nv &lt;- rep (1, 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3.nv &lt;- x1.nv + x2.nv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1+1, 2+1, 3+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f the length is not the same, the shortest vector will be “extended” by “recycling” the elements, starting from the first one (you will also get a warning messag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1.nv &lt;- 1: 3;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y2.nv &lt;- rep (1, 5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3.nv &lt;- y1.nv + y2.nv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 2, 3, 4, 2,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46080"/>
            <a:ext cx="9144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e0000"/>
                </a:solidFill>
                <a:latin typeface="Calibri"/>
              </a:rPr>
              <a:t>Numeric Vectors: Arithmetic Operations</a:t>
            </a:r>
            <a:endParaRPr b="0" lang="en-US" sz="40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168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Multiplication (Division): Scalar and Vector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ke for addition and subtraction, every vector element will be multiplied (divided) by the scal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1.nv &lt;- 1: 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2.nv &lt;- x1.nv * 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3.nv &lt;- x1.nv / 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-46080"/>
            <a:ext cx="9144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e0000"/>
                </a:solidFill>
                <a:latin typeface="Calibri"/>
              </a:rPr>
              <a:t>Numeric Vectors: Arithmetic Operations</a:t>
            </a:r>
            <a:endParaRPr b="0" lang="en-US" sz="40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168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Multiplication (Division): Vector and Vector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ke for the addition (and subtraction) every corresponding vector element will be multiplied (divide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1.nv &lt;- 1: 3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2.nv &lt;- rep (2, 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3.nv &lt;- x1.nv * x2.nv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1*2, 2*2, 3*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46080"/>
            <a:ext cx="9144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e0000"/>
                </a:solidFill>
                <a:latin typeface="Calibri"/>
              </a:rPr>
              <a:t>Numeric Vectors: Arithmetic Operations</a:t>
            </a:r>
            <a:endParaRPr b="0" lang="en-US" sz="40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168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Dot Product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dot product is a specific operation among vectors, where every corresponding element is multiplied, and then the sum of these multiplications is outp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You need vectors of equal siz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1.nv &lt;- c (1, 0, 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2.nv &lt;- c (0, 1, 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3.mx &lt;- x1.nv %*% x2.n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1*0 + 0*1 + 2*1 =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te: the result of this operation is a matrix, an object type we will see in the next pa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R and Microarray Analysis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16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Bioconductor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oconductor is an open source project for computational genomics, based on 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an extremely valuable source of analysis and annotation libraries for many different microarray platforms, including Affymetrix, and not restricted to transcriptom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will have a closer look later on in the cour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www.bioconductor.org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-46080"/>
            <a:ext cx="9144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e0000"/>
                </a:solidFill>
                <a:latin typeface="Calibri"/>
              </a:rPr>
              <a:t>Numeric Vectors: Logical Operators</a:t>
            </a:r>
            <a:endParaRPr b="0" lang="en-US" sz="40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168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have already encountered logical operators, for scalar val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gical operators for vectors operate element-by-element, and have a single symbol instead of a double 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, OR, NO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 (T, F, F) &amp; c (T, T, F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T, F, 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 (T, F, F) | c (T, T, F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T, T, 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! (T, F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F, 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-46080"/>
            <a:ext cx="9144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e0000"/>
                </a:solidFill>
                <a:latin typeface="Calibri"/>
              </a:rPr>
              <a:t>Numeric Vectors: Other Operations</a:t>
            </a:r>
            <a:endParaRPr b="0" lang="en-US" sz="40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168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ther mathematical operations, such as ^, are applied element-by-el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nv &lt;- c (1, 0, 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nv ^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1, 0,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s.na (x.n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F, F, 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m, max and min are applied to all values, but they return a single element (for sum, it’s the sum of all vector valu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 (x.nv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x (x.nv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in (x.nv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R Programming (I)</a:t>
            </a:r>
            <a:br>
              <a:rPr sz="4400"/>
            </a:b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Part 7 / 7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Vector Indexing and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Value Matching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46080"/>
            <a:ext cx="9144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Value Matching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168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446fd5"/>
                </a:solidFill>
                <a:latin typeface="Calibri"/>
              </a:rPr>
              <a:t>How to compare two vectors? Identity</a:t>
            </a:r>
            <a:endParaRPr b="0" lang="en-US" sz="3000" spc="-1" strike="noStrike">
              <a:solidFill>
                <a:srgbClr val="446fd5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dentical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s used to check if two objects are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completel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dentical (including labels and other attribut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1.n &lt;- c (1, 2, 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2.n &lt;- c (1, 2, 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3.n &lt;- c (1, 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4.n &lt;- c (2, 1, 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dentical (x1.n, x2.n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dentical (x1.n, x3.n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dentical (x1.n, x4.n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-46080"/>
            <a:ext cx="9144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e0000"/>
                </a:solidFill>
                <a:latin typeface="Calibri"/>
              </a:rPr>
              <a:t>Value Matching</a:t>
            </a:r>
            <a:endParaRPr b="0" lang="en-US" sz="40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6280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446fd5"/>
                </a:solidFill>
                <a:latin typeface="Calibri"/>
              </a:rPr>
              <a:t>How to compare two vectors? Inclusion of elements</a:t>
            </a:r>
            <a:endParaRPr b="0" lang="en-US" sz="3000" spc="-1" strike="noStrike">
              <a:solidFill>
                <a:srgbClr val="446fd5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%in%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used to assess if a vector of values matches any of the elements of another vector; it outputs a logical vector of length equal to the first term in the expres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1.n &lt;- c (1, 2, 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2.n &lt;- c (1, 2, 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3.n &lt;- c (1, 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4.n &lt;- c (2, 1, 3, 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2.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%in%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1.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T, T, 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3.n %in% x1.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T, 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4.n %in% x1.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T, T, T, 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1.n %in% x4.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T, T, 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Value Matching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62800" cy="49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Converting a logical vector into an index vector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y you have use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%in%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now you have a logical vector; you ca use this directly to extract corresponding elements, but you can also convert this to an index vector us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1.n &lt;- c (1, 5, 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2.n &lt;- c (1, 2, 3, 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.bn &lt;- x1.n %in% x2.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T, F, 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.ix &lt;- which (x1.n %in% x2.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1,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takes a little of experience to figure out which one fits you at be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Value Matching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62800" cy="49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Indexing, logicals, logical operators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can use logical operators to build more elaborate logical express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1.n &lt;- c (1, 5, 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2.n &lt;- c (1, 2, 3, 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3.n &lt;- c (1, 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x1.n %in% x2.n) | (x1.n %in% x3.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T, T, 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x1.n %in% x2.n) &amp; (x1.n %in% x3.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T, F, 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46080"/>
            <a:ext cx="9144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Value Matching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218440" cy="50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446fd5"/>
                </a:solidFill>
                <a:latin typeface="Calibri"/>
              </a:rPr>
              <a:t>How to compare two vectors? Matching</a:t>
            </a:r>
            <a:endParaRPr b="0" lang="en-US" sz="3000" spc="-1" strike="noStrike">
              <a:solidFill>
                <a:srgbClr val="446fd5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you want to know in what order the elements of a vector (query) appear in another vector (template), 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t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which outputs an index v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tch (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template_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query_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3.n &lt;- c (1, 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4.n &lt;- c (5, 1, 3, 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tch (x3.n, x4.n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2,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4.n[match (x3.n, x4.n)]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1, 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d that NAs will be generated every time you don’t have a mat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tch (x4.n, x3.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2, 1, NA, NA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Installing R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50752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Windows Users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nstall 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cran.r-project.org/bin/windows/bas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st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avoid pain, install R in a subfolder of your user fold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 refer to this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http://cran.r-project.org/bin/windows/base/rw-FAQ.html#Does-R-run-under-Windows-Vista_003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nstall R code edi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wnload Notepad+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0">
              <a:lnSpc>
                <a:spcPct val="9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sourceforge.net/projects/notepad-plus/files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wnload NppToR (interfaces Notepadd++ and 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0">
              <a:lnSpc>
                <a:spcPct val="9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sourceforge.net/projects/npptor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Installing R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50752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Mac Users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tall 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cran.r-project.org/bin/macosx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 code editor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the default one, no need to install another 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Using R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46fd5"/>
                </a:solidFill>
                <a:latin typeface="Calibri"/>
              </a:rPr>
              <a:t>Code and run</a:t>
            </a:r>
            <a:endParaRPr b="0" lang="en-US" sz="2800" spc="-1" strike="noStrike">
              <a:solidFill>
                <a:srgbClr val="446fd5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will typically write a script, or a longer program, using a R code edi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ce you deem the program complete, you will run it, visualizing its output on the GUI console and/or graphics termi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UI console: space where you can (1) write and run code, (2) visualize outpu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ics terminal: used for plots and simil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will also be able to output to f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can also save the R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workspa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with the internal representation of the objects you are us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3T18:45:01Z</dcterms:created>
  <dc:creator>Jagadish Rangrej</dc:creator>
  <dc:description/>
  <dc:language>en-US</dc:language>
  <cp:lastModifiedBy>Daniele Merico</cp:lastModifiedBy>
  <dcterms:modified xsi:type="dcterms:W3CDTF">2010-10-12T22:14:38Z</dcterms:modified>
  <cp:revision>159</cp:revision>
  <dc:subject/>
  <dc:title>Introduction to R</dc:title>
</cp:coreProperties>
</file>