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0AEB5-1AB3-4187-B63A-9CC3E10BD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DF4E7-B4AC-4933-8DF1-9F0361F35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6F7A5-6DE9-4E39-9488-D44835043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9ED5E-70AB-4D69-A110-C8C84E679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714AA-B326-45B5-9622-E4D2AB3EB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CA233-F4A6-4514-AEB4-C6E671EC6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40D00-7F18-4A0A-8AAA-C80FB7224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A71A9-DCB2-44CD-AE95-AE9A889F2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1CFBD-4567-4006-9B29-E8414E5CF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196A-31F3-4145-B562-D1E8429D7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805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4F6E-1AA4-4985-AB17-867550C66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92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D76B-AE89-49AE-A29F-FC259A6CA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12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668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12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668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4F4E-3887-4CCD-80D2-1A2DF6D5D9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16AA-1EB7-4338-BF6B-BDA753FAC1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DFD8-9F14-4425-9E89-B6DFE81BC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7C82-51FA-495C-AAB2-C73D847A1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FBC8-DF7B-4F6D-8C51-296AC4C10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4608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35C7-25E0-4214-8779-4CE16C0D7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5F39-3CAF-46BF-BF91-F3A21EB5F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92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3404-5985-4A01-BC35-C0A608E53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1DA2-D55A-4148-9963-7ED70D53A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7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09920" y="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D96A0-C1D9-4D73-971A-D64813AFB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25/05/2010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Daniele Merico, PhD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Using 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Live session showing how to use R 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(webinar only)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ello Wor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cript using the 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“Hello World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 the Hello World scri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pad++ (Win): CTRL+F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 editor (Mac): source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Help Pag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How to access the help page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-match hel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 (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 (“if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“if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-match hel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.search (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?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2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Variable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are variables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have never programmed, this will take a little bit of thinking before grasping the concept, but once you’ll get started, it will be very straight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athematics, as well as other disciplines, you use symbols to formulate problems in an abstract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x +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 = m *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are variables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at a procedure, in whi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read two numbers, corresponding to the two edges of a right-angled triang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ompute the value of the third 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print this value on the sc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are variables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formalize that procedure, you may use the fo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(edge_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(edge_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ge_3 = ((edge_1 ^ 2) + (edge_2 ^ 2)) ^ 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 (edge_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e have just written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seudo-c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it’s reasonably similar to what you would do in a programming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^’ are (arithmetic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ad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‘=’ a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ge_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ge_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ge_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are variables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identified by specific variable names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ge_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conceptually related to the abstraction of the problem we are solving or the procedure we are execu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store a different value every time the program is run, but only a single value at a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ir value can be input by the 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their value can be computed inside 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, finally, their value can be output (to the screen, to a file, to the printer, etc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riable Typ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variable you create has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ype indicates what general category of value the variable can 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er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haracter) 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riable Assignmen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ssignment is use to assign a specific value to a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languages require to first define the type of a variable, and only then assign a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is more flexible: you assign the value without previous definition, and the type is inferred automat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umeric Variabl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he name suggest, a numeric variable can assume only values that are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.n &lt;- 2 /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.n &lt;- 5 ^ 0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1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Introduction to 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haracter Variabl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haracter variable can assume strings of text as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_1.ch &lt;- “Paul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_2.ch &lt;- “Ringo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bject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more general notion than variable, as an object can be composed of several atomic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o fully understand this, you would require elements of object-oriented programming, which is beyond the goals of this cour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3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Essential Command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bject typ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inspect the type of an object using the comm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notion 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goes beyond the simple and intuitive definition of type we used before, but to understand it, you require elements of object-oriented programming, which is beyond the goals of this cou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bject typ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as the comm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o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utputs the way the object is internally sto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of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of (x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formation provided b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o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more low-level, i.e. closer to the inner workings of the computer: you will be mostly us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orkspace Object Manipulatio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list all objects in your work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s 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move an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; y.n &lt;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x.n, y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move all objects in the work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list = ls (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Save the Workspac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save all objects in your workspace, for use in another session, either using the GUI or using the comm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file 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fil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 (x.n, file = “ws_xn.RData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.image (file 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fil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.image (file = “ws_all.RData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ve.image saves all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orking directory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d that the workspace will be saved to a file located in the current working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hange the working directory use the GUI or the following com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wd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p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wd (“C:\Users\Daniele\Documents\Data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heck whats the working directory u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etwd 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irectori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re called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old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many recent opera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Useful Syntax Rul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507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se sens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m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se parts are not r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comment 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Comm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Debug this p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ew line separa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urn (newli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“Hello”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“Hello”); print (“worl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“worl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onsole behavio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mplete code lines followed by return will not be interpreted: a new line will be generated with “+” as initial char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&gt; print ("Hello World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will be able to complete your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&gt; print ("Hello World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[1] "Hello World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is R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628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R: a programming environment for statistic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t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pen sour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ersion of the S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braries for data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al 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ks for further read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en.wikipedia.org/wiki/R_(programming_langu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n Introduction to 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cran.r-project.org/doc/manuals/R-intro.pd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utput to consol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times you will be printing values of objects to the cons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re just typing code on the console and running it, you can simply type the object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in a program, you need to use the fo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x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lso possible to print an object to a file: we will see how to in the second les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Arithmetic operato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manipulate numeric variables, you can use the well-known arithmetic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 - * 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 +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ddi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^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er di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%/%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idue of the integer di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%%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ading source cod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have lear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type and run the code in the cons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use code editor shortcuts to have our code run in the cons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also use the comm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 (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fil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 (“script_01.R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lename can also contain the pa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4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Logical Type an Logical Expression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gical Expression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write logical expression, which can be evaluated as true or 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ands testing certain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also assign the results of such expressions to objects of logical type (true or fal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the next slides for 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omparison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r / smaller th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2; x2.n &lt;-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x1.n &gt; x2.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x.b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ere, we are comparing two objects of type numeric, x1.n and x2.n; the expression ‘x1.n &gt; x2.n’ is false, hence x.bn will have value FA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omparison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l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2; x2.n &lt;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x1.n == x2.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x.b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here, we are comparing two objects of type numeric, x1.n and x2.n; the expression ‘x1.n == x2.n’ is true, hence x.bn will have value TR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always remember to use ‘==’ and not ‘=’ !!!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ther logical expression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evalu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umeric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character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ue eval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A are values that could not be generated in a computation process; we will see in the following chapter how NAs can be generated when looking for matches; here, just focus on the logical outp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gical Value Assignmen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ly assign a logical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-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logical_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FA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RUE’ and ‘FALSE’ are reserved names for logical values; as a shortcut, ‘T’ and ‘F’ are objects by default assigned the TRUE and FALSE values; mind that these default values could be overwritten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gical Operato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cal Operators for single values have a double symbol (single symbol operators are for vecto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, OR,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&amp;&amp; 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&amp;&amp; 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 &amp;&amp; 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|| 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|| 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 || 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How is R used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628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odes of use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a short program (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crip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just to analyze som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a long program, which will be used over and over by you or other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 this course you will have enough exposure to R to perform (a) but not (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umeric-Logical Conversio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ing from numeric to log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other numb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.logical (0.01); as.logical (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ing from logical to numer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.numeric (T); as.numeric (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5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issing Values (NA), 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Infinite Values, 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Not a Number (NaN)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ot Available Valu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 is a special value that is assigned when it is not possible to have an actual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when, in a vector, some element has not been assigned a value (see next chapter for more detai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NA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Aft>
                <a:spcPts val="2001"/>
              </a:spcAft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x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aware of NA values, as they can “propagate” when you compute operations, producing more NA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 next chapter on vectors for their rem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Infinite Valu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can generate values that are not real numbers such as positive and negative infin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 /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Aft>
                <a:spcPts val="2001"/>
              </a:spcAft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1 /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-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values obey particular rules in arithmetic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1 /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x.n + 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Aft>
                <a:spcPts val="2001"/>
              </a:spcAft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ot a Numbe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N values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t a Numb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re generated when there is an indecision between + inf and – i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0/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n (x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x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 has limited symbolic calculation capabilities, so you will not be able to handle operations between infinite values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mit of a seque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mathematical analys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f ^ 2 / In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og (Inf) / In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6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Vector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composed of an ordered collection of elements of the same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v &lt;- c (1943, 1940, 1942, 19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umer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ch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charac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is the concatenation command, that you can use to generate an ordered collection of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Index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ccess to a subset of the vector, use indexes: the first element is associated to index 1, et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1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"George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3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"Paul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chv &lt;- x.chv[1: 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chv &lt;- x.chv[c (1, 4)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i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Length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ector length is the number of elements assigned to a value in the v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v &lt;- c (1943, 1940, 1942, 19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Index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ttempt to extract an element that does not exist will produce an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5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you will be able to assign a  value to a position that does not exist y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5] &lt;- "The Walrus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If, doing so, you skip positions that have no values assigned, NA values will be gener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7] &lt;- "The Eggman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and Microarray Analysi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Why using R for microarray analysis?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several desktop applications that can be used for microarray analysi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y to use (programming skills not requir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amlined analysis work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flex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g time before new “cool” methods are impleme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use R, you will be able to customize the analysis for your own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A Values in Vecto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628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easily replace NA values by using is.na and the logical index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George", "John", "Paul", "Ringo", "The Walrus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7] &lt;- "The Eggman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is.na (x.chv)] &lt;- "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position 6 was NA, not it’s an empty st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Element Label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ides numeric indexes, you can additionally use labels to retrieve vector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.nv &lt;- c (1943, 1940, 1942, 19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s (beatles.nv) &lt;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.nv["John"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.nv[c ("Paul", "Ringo")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942, 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Indexes: Logical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also use a logical vector to identify elements of a vector: only positions with value TRUE in the logical vector will be consid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.nv &lt;- c (1943, 1940, 1942, 19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s (beatles.nv) &lt;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1940.bn &lt;- beatles.nv == 194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, T, F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s (beatles.nv)[which1940.b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"John", "Ringo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These commands are useful to extract the names of the Beatles who were born in 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Regular Vector Generation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generate a vector composed of repeated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, the second input argument is passed to ‘times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also use ‘each’ for a different repetition patt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x 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repeat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times 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tim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x = 1, times = 3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1,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1, 3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1,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x = 1: 2, times = 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2, 1,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x = 1: 2, each = 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1, 2,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Regular Vector Generation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generate a regular sequ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q (from = 1, to = 3, by = 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2,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q (from = 1, to = 3, length.out =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2,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Addition (Subtraction): Scalar and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calar is an atomic value (as opposed to the vect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dd (subtract) a scalar to a vector, the scalar will be added (subtracted) to (from) every element of the v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1: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v &lt;- x1.nv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v &lt;- x1.nv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Addition (Subtraction): Vector and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sponding elements will be ad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should perform additions (subtractions) between vectors of equal 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1: 3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2.nv &lt;- rep (1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v &lt;- x1.nv + x2.n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+1, 2+1, 3+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the length is not the same, the shortest vector will be “extended” by “recycling” the elements, starting from the first one (you will also get a warning messag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1.nv &lt;- 1: 3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2.nv &lt;- rep (1, 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3.nv &lt;- y1.nv + y2.n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2, 3, 4, 2,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ultiplication (Division): Scalar and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for addition and subtraction, every vector element will be multiplied (divided) by the sca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1: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v &lt;- x1.nv *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v &lt;- x1.nv /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ultiplication (Division): Vector and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for the addition (and subtraction) every corresponding vector element will be multiplied (divid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1: 3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2.nv &lt;- rep (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v &lt;- x1.nv * x2.n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*2, 2*2, 3*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Dot Product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dot product is a specific operation among vectors, where every corresponding element is multiplied, and then the sum of these multiplications is outp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 need vectors of equal si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c (1, 0,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v &lt;- c (0, 1, 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mx &lt;- x1.nv %*% x2.n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*0 + 0*1 + 2*1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e: the result of this operation is a matrix, an object type we will see in the next pa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and Microarray Analysi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Biocondu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conductor is an open source project for computational genomics, based on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n extremely valuable source of analysis and annotation libraries for many different microarray platforms, including Affymetrix, and not restricted to transcriptom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will have a closer look later on in the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bioconductor.org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Logical Operator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have already encountered logical operators, for scalar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cal operators for vectors operate element-by-element, and have a single symbol instead of a double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, OR, N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T, F, F) &amp; c (T, T, F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F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T, F, F) | c (T, T, F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 (T, F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Other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mathematical operations, such as ^, are applied element-by-el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v &lt;- c (1, 0,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v ^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0,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x.n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, F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m, max and min are applied to all values, but they return a single element (for sum, it’s the sum of all vector valu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7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Vector Indexing and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Value Matching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446fd5"/>
                </a:solidFill>
                <a:latin typeface="Calibri"/>
              </a:rPr>
              <a:t>How to compare two vectors? Identity</a:t>
            </a:r>
            <a:endParaRPr b="0" lang="en-US" sz="30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c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used to check if two objects ar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dentical (including labels and other attribut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c (1, 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c (1, 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&lt;- c (1,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 &lt;- c (2, 1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cal (x1.n, x2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cal (x1.n, x3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cal (x1.n, x4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628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446fd5"/>
                </a:solidFill>
                <a:latin typeface="Calibri"/>
              </a:rPr>
              <a:t>How to compare two vectors? Inclusion of elements</a:t>
            </a:r>
            <a:endParaRPr b="0" lang="en-US" sz="30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in%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used to assess if a vector of values matches any of the elements of another vector; it outputs a logical vector of length equal to the first term in the ex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c (1, 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c (1, 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&lt;- c (1,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 &lt;- c (2, 1, 3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%in%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%in% x1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 %in% x1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T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%in% x4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6280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Converting a logical vector into an index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y you have us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in%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now you have a logical vector; you ca use this directly to extract corresponding elements, but you can also convert this to an index vector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c (1, 5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c (1, 2, 3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.bn &lt;- x1.n %in% x2.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F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.ix &lt;- which (x1.n %in% x2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takes a little of experience to figure out which one fits you at b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6280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Indexing, logicals, logical operator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use logical operators to build more elaborate logical expr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c (1, 5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c (1, 2, 3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&lt;- c (1, 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1.n %in% x2.n) | (x1.n %in% x3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1.n %in% x2.n) &amp; (x1.n %in% x3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F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1844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446fd5"/>
                </a:solidFill>
                <a:latin typeface="Calibri"/>
              </a:rPr>
              <a:t>How to compare two vectors? Matching</a:t>
            </a:r>
            <a:endParaRPr b="0" lang="en-US" sz="3000" spc="-1" strike="noStrike">
              <a:solidFill>
                <a:srgbClr val="446fd5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want to know in what order the elements of a vector (query) appear in another vector (template),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outputs an 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template_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query_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&lt;- c (1, 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 &lt;- c (5, 1, 3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 (x3.n, x4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2,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[match (x3.n, x4.n)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d that NAs will be generated every time you don’t have a mat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 (x4.n, x3.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2, 1, NA, N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Installing 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5075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Windows User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stall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cran.r-project.org/bin/windows/bas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t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void pain, install R in a subfolder of your user fol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refer to thi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ttp://cran.r-project.org/bin/windows/base/rw-FAQ.html#Does-R-run-under-Windows-Vista_003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stall R code 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wnload Notepad+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sourceforge.net/projects/notepad-plus/files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wnload NppToR (interfaces Notepadd++ and 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sourceforge.net/projects/npptor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Installing 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5075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ac User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ll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cran.r-project.org/bin/macosx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code edit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default one, no need to install another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Using 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46fd5"/>
                </a:solidFill>
                <a:latin typeface="Calibri"/>
              </a:rPr>
              <a:t>Code and run</a:t>
            </a:r>
            <a:endParaRPr b="0" lang="en-US" sz="28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typically write a script, or a longer program, using a R code edi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ce you deem the program complete, you will run it, visualizing its output on the GUI console and/or graphics term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UI console: space where you can (1) write and run code, (2) visualize 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ics terminal: used for plots and simi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also be able to output to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also save the 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ork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 the internal representation of the objects you are u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8:45:01Z</dcterms:created>
  <dc:creator>Jagadish Rangrej</dc:creator>
  <dc:description/>
  <dc:language>en-US</dc:language>
  <cp:lastModifiedBy>Daniele Merico</cp:lastModifiedBy>
  <dcterms:modified xsi:type="dcterms:W3CDTF">2010-10-12T22:14:38Z</dcterms:modified>
  <cp:revision>159</cp:revision>
  <dc:subject/>
  <dc:title>Introduction to R</dc:title>
</cp:coreProperties>
</file>