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ABDD9-5DB4-4BF7-843B-66BAC92EA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8B31B-D0A7-4AD4-941B-2F7ADB2F6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E9CB7-9385-4DB7-BC75-9070306CB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45DFC-6187-4EB9-8723-3F0914C66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B7422-479B-46E3-AFA1-87398B1C3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9B865-4BCF-42FD-BF18-1A89BFA01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54CF5-7E56-42FD-98FA-051E66706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5F733-9613-44A4-A95F-A2FF2A819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347E2-BD18-4335-AAF5-86C745DBA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9EF3A-57A4-45CD-82D6-A1AC9FF5C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786D0-E940-4BCE-94AA-68433D7F7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0402B-BA39-49E7-8E28-360DD8109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D5FD3-BDCF-4862-92BF-611269967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0396A-840B-42C6-8063-DFF5B7A6C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971E5-D03B-41B3-9F45-103082DD0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1FD2F-9F8D-4836-9B22-A16D37464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ACDF-5704-45EA-98C9-54BFB4374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19DA-094D-4090-98A3-CED09D04A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A368-ACE1-49AF-953C-DB3FBEC32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12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68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D9C6-696B-4BCD-AD82-BF89D01D6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3556-B73F-480A-B6BA-3F157C518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0754-2620-44DC-B82D-B79D57B86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4CD9-1654-46F3-B601-F247A70BD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C5BC-D95E-4F0A-9FE6-C5913E8A9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46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4B9C-5609-4F55-B152-22A8E9820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60D8-16B2-44AA-85A3-8952189C3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D155-364A-4B46-9C53-990022690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FE93-0C6C-401D-B140-C5C583482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7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5EA95-31BE-417A-A282-5378405A3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 Express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01/07/2010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aniele Merico, Ph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164120"/>
            <a:ext cx="36003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l of the distribution function for t ≤ t(g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ability to observe t(gi) under the null hypothes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-val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33908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164120"/>
            <a:ext cx="36003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Integral of the distribution function for t ≤ t(g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Probability to observe t(gi) under the null hypothes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P-val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33908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3522600"/>
            <a:ext cx="28432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-value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an also be interpreted as the probability to make a mistake when rejecting the Null Hypothesis in favor of 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ternative Hypothesi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in this case, C1 &gt; C2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 want low p-valu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&lt; 0.0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000"/>
            </a:b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Strength-of-change vs Test Statistic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g2 (ratio of class mean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 measure of strength of the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s on the means of classes, therefore it is unable to formally account f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certain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class mean esti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 test statistics, based on the statistical theory of inference, and specifically on hypothesis te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ly accounts f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certain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class mean esti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s in a p-value, the probability of making a mistake when rejecting the null hypothesis (i.e. no change in expression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rresponds to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ignificant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not a measure of change strength, although strong change, if consistent across samples, results in a very low p-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i="1" lang="en-US" sz="4400" spc="-1" strike="noStrike">
                <a:solidFill>
                  <a:srgbClr val="ce0000"/>
                </a:solidFill>
                <a:latin typeface="Calibri"/>
              </a:rPr>
              <a:t>moderated</a:t>
            </a: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 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blem with the t-test is the insufficient number of replicates in the usual microarray study (3-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vercome this problem, several modified t-statistics, usually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derated 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have been int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either define a minimal variation coefficient, or otherwise exploit the availability of many gene expression levels to better estimate single gene var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utilize the moderated t defined in the Bioconductor pack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ultiple Test Correct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et’s assume we run 1000 tests for differential expression, and we find gene g1 with p-value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apparently, that gene is significantly differentia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owever, if we have a probability of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to obtain a t as extreme or more extreme than t (g1) under the null hypothesis, how many do you expect to find on 1000 tests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actly 1 (= 1000 *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refore, a gene with p-value =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may well be a false positiv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s problem is addressed by multiple test correction techniqu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us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Benjamini-Hochber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orrection, which outputs the false discovery rate (FDR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FDR (g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s the fraction of false positives you expect to have when selecting all genes with p-value &lt; p-value (g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simple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Compute differential expression at 12h of Estrogen Treatment data-set, treated vs untre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ata needed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s.pData, es_log2.m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ph.df &lt;- pData (es.pDat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_c2.ix &lt;- match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ph.df)[es_ph.df$Time == "12h"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s_ph.df$Trtm == "trt"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log2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_c1.ix &lt;- match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ph.df)[es_ph.df$Time == "12h"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s_ph.df$Trtm == "unt"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log2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simple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63680"/>
            <a:ext cx="741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ompute a signed index = log2 (p-value) * sign (t), no mult. co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.t_test &lt;- function (input.nv, c1.ix, c2.i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.htest &lt;- t.test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put.nv[c2.ix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input.nv[c1.ix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ternative = "two.sided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pv.n &lt;- - log10 (t.htest$p.value) *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 (t.htest$statisti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logpv.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pv.nv &lt;- apply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log2.mx, 1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.t_tes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1.ix = s_c1.ix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2.ix = s_c2.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limma moderated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16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46fd5"/>
                </a:solidFill>
                <a:latin typeface="Calibri"/>
              </a:rPr>
              <a:t>Limma HowTo</a:t>
            </a:r>
            <a:endParaRPr b="0" lang="en-US" sz="2800" spc="-1" strike="noStrike">
              <a:solidFill>
                <a:srgbClr val="446fd5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fine a design model matrix, giving in input all the possible factor combinations corresponding to classes (every class can be regarded as a combination of specific factor level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t a linear mod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fine a contrast matrix, defining which classes you want to compare using the moderated t-te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t the eBayes model for the moderated t-te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enerate the t-test p-value corrected by BH, and other statistic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limma moderated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640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limm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actors.chv &lt;- paste (es_ph.df$Trtm, es_ph.df$Time, sep = "_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el_1.mx &lt;- model.matrix (~ 0 + factor (es_factors.chv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model_1.mx) &lt;- levels (factor (es_factors.chv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model_1.mx) &lt;- rownames (es_ph.d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1.lm &lt;- lmFit (es.eSet, es_model_1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.contras &lt;- makeContrasts (trt_12h-unt_12h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s = es_model_1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 &lt;- contrasts.fit (es_fit_1.lm, es.contr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 &lt;- eBayes (es_fit_2.l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 &lt;- topTable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nrow (es_log2.mx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djust = "B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2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ymbol Conversion an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Gene Annotation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1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ifferential Statistics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r gene expression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Affymetrix and Other Identifie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ymetrix identifiers correspond to the sets of probes physically present on the microarray and aimed at the same molecula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probe design was based on Unigene clusters of full or partial transcribed sequ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cing variants, and other transcriptional variants cannot be systematically distingu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ymetrix unit to gene is sometimes one-to-one, sometimes many-to-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se cases we will take only the most differential probe-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CBI EntrezGen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favorite database for gene annotation is NCBI Entrez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: gene (one or more transcrip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ardized functional annotations (Gene Ontology) are based on Entrez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D systems (e.g. UniProt) can be easily mapped on Entrez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onvert Affymetrix ID to Entrez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conductor has annotation libraries with data derived from EntrezGene, using the EntrezGene ID as 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, full name, chromosome, genomic coordinates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Conversion Affymetrix &gt; EntrezGene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8480" y="1218960"/>
            <a:ext cx="73551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ourier New"/>
                <a:ea typeface="Courier New"/>
              </a:rPr>
              <a:t># Affy to entrez-gene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hgu133plus2.db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affy2eg.chv &lt;- unlist (as.list (hgu133plus2ENTREZID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ourier New"/>
                <a:ea typeface="Courier New"/>
              </a:rPr>
              <a:t># Entrez-gene to other annotations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org.Hs.eg.db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sy.chv &lt;- unlist (as.list (org.Hs.egSYMBOL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name.chv &lt;- unlist (as.list (org.Hs.egGENENAME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Adding Symbols and Full name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3080" y="1052640"/>
            <a:ext cx="7344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  <a:ea typeface="Courier New"/>
              </a:rPr>
              <a:t># Pruning redundant Affys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.eg   &lt;- Ann_affy2eg.chv[es_modt.df$ID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Affy &lt;- es_modt.df$ID[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duplicated (all.eg) &amp;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is.na (all.eg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eg   &lt;- Ann_affy2eg.chv[sel.Affy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  <a:ea typeface="Courier New"/>
              </a:rPr>
              <a:t># Assembling final data.frame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stats_ann.df &lt;- cbind (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$ID[match (sel.Affy, es_modt.df$ID)],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eg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sy.chv[sel.eg]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name.chv[sel.eg]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sel.Affy, es_modt.df$ID),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: ncol (es_modt.df)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stats_ann.df)[1: 4] &lt;-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ID_Affy", "ID_Eg", "Symbol", "Name"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all.eg, sel.Affy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3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Gene profile visualization: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Heat-map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Heat Map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34920" y="1125000"/>
            <a:ext cx="536436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18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Maps are used to visualize gene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 levels are represented as colors, and this requires data transformations (discussed in the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s (and sample) are grouped using hierarchical clust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space limits it is common to visualize genes that pass given differentiality thresholds (t-test p-value, logratio, P calls) and/or restricting to specific functional categ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8646" b="0"/>
          <a:stretch/>
        </p:blipFill>
        <p:spPr>
          <a:xfrm>
            <a:off x="34920" y="1197000"/>
            <a:ext cx="41767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Data Transformations for Heat Map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6407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linear expression signals span many orders of magnit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Solu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ubtracting mean and divide by standard deviation for every gene (row of the expression matr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K for time course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bscures differentiality in two-class des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ivide all values by the mean of a common reference class (log2 rat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ood for two-class des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ood for multi-class where a class can work as common 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ften requires setting an upper and lower saturation 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Similarity Indexes for Gene Clustering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working on untransformed data, the best solution is to 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arson Corre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ased similarity on log2 (or linear) expression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were already discussed in lesson 4 for sample hierarchical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working on log2ratio you should 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s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based simil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eat Maps in this course…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be using a Cytoscape plugin for microarray data exploration where heat maps are implemented with mean, standard deviation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still be able to upload a pre-transformed matrix (e.g. using the common reference) and use no further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fault similarity index used in the plugin is pearson corre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plan adding the cosine index, that’s better suited to common reference lograt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se you want to use R, please refer t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tmap {stats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 Statistic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the expression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s x Samples, signal related to transcript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identify which gene have an interesting behavior in relation to the experimental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tistical technique used depends on the biological question as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ity for Two-class Desig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 two class desig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1: Control (no estrogen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2: Estrogen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logical questions: which genes are up-regulated or down-regulated after estrogen treat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lity index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2 (ratio of class me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rated t-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stat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ity for Two-class Desig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1" name="Rectangle 69"/>
          <p:cNvSpPr/>
          <p:nvPr/>
        </p:nvSpPr>
        <p:spPr>
          <a:xfrm>
            <a:off x="1906560" y="1838160"/>
            <a:ext cx="1152720" cy="230508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3060720" y="1838160"/>
            <a:ext cx="1152360" cy="2305080"/>
          </a:xfrm>
          <a:prstGeom prst="rect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Line 71"/>
          <p:cNvSpPr/>
          <p:nvPr/>
        </p:nvSpPr>
        <p:spPr>
          <a:xfrm>
            <a:off x="1908000" y="20541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Line 72"/>
          <p:cNvSpPr/>
          <p:nvPr/>
        </p:nvSpPr>
        <p:spPr>
          <a:xfrm>
            <a:off x="226836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Line 73"/>
          <p:cNvSpPr/>
          <p:nvPr/>
        </p:nvSpPr>
        <p:spPr>
          <a:xfrm>
            <a:off x="2482920" y="18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Line 74"/>
          <p:cNvSpPr/>
          <p:nvPr/>
        </p:nvSpPr>
        <p:spPr>
          <a:xfrm>
            <a:off x="1908000" y="22716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Line 75"/>
          <p:cNvSpPr/>
          <p:nvPr/>
        </p:nvSpPr>
        <p:spPr>
          <a:xfrm>
            <a:off x="341964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Line 76"/>
          <p:cNvSpPr/>
          <p:nvPr/>
        </p:nvSpPr>
        <p:spPr>
          <a:xfrm>
            <a:off x="363528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Line 77"/>
          <p:cNvSpPr/>
          <p:nvPr/>
        </p:nvSpPr>
        <p:spPr>
          <a:xfrm>
            <a:off x="3060720" y="22716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78"/>
          <p:cNvSpPr/>
          <p:nvPr/>
        </p:nvSpPr>
        <p:spPr>
          <a:xfrm>
            <a:off x="1908000" y="14065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ression Matri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79"/>
          <p:cNvSpPr/>
          <p:nvPr/>
        </p:nvSpPr>
        <p:spPr>
          <a:xfrm>
            <a:off x="1835280" y="4214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-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80"/>
          <p:cNvSpPr/>
          <p:nvPr/>
        </p:nvSpPr>
        <p:spPr>
          <a:xfrm>
            <a:off x="3059280" y="4214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-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AutoShape 81"/>
          <p:cNvSpPr/>
          <p:nvPr/>
        </p:nvSpPr>
        <p:spPr>
          <a:xfrm>
            <a:off x="4572000" y="2776680"/>
            <a:ext cx="503280" cy="485640"/>
          </a:xfrm>
          <a:prstGeom prst="rightArrow">
            <a:avLst>
              <a:gd name="adj1" fmla="val 43787"/>
              <a:gd name="adj2" fmla="val 64727"/>
            </a:avLst>
          </a:prstGeom>
          <a:solidFill>
            <a:srgbClr val="ffff2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101"/>
          <p:cNvSpPr/>
          <p:nvPr/>
        </p:nvSpPr>
        <p:spPr>
          <a:xfrm>
            <a:off x="4714920" y="1125360"/>
            <a:ext cx="2303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s Rank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erential Statisti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102"/>
          <p:cNvSpPr/>
          <p:nvPr/>
        </p:nvSpPr>
        <p:spPr>
          <a:xfrm>
            <a:off x="5362560" y="4226040"/>
            <a:ext cx="266544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.g.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2 (ratio of class means)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erated t-te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 statistic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104"/>
          <p:cNvSpPr/>
          <p:nvPr/>
        </p:nvSpPr>
        <p:spPr>
          <a:xfrm>
            <a:off x="5364000" y="1838160"/>
            <a:ext cx="1008360" cy="2305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Line 105"/>
          <p:cNvSpPr/>
          <p:nvPr/>
        </p:nvSpPr>
        <p:spPr>
          <a:xfrm>
            <a:off x="594036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Line 106"/>
          <p:cNvSpPr/>
          <p:nvPr/>
        </p:nvSpPr>
        <p:spPr>
          <a:xfrm>
            <a:off x="5364000" y="20541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Line 107"/>
          <p:cNvSpPr/>
          <p:nvPr/>
        </p:nvSpPr>
        <p:spPr>
          <a:xfrm>
            <a:off x="5364000" y="22716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Line 110"/>
          <p:cNvSpPr/>
          <p:nvPr/>
        </p:nvSpPr>
        <p:spPr>
          <a:xfrm>
            <a:off x="6588000" y="191124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112"/>
          <p:cNvSpPr/>
          <p:nvPr/>
        </p:nvSpPr>
        <p:spPr>
          <a:xfrm>
            <a:off x="6659640" y="18381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113"/>
          <p:cNvSpPr/>
          <p:nvPr/>
        </p:nvSpPr>
        <p:spPr>
          <a:xfrm>
            <a:off x="6659640" y="3878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2 (ratio of class means)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16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he set of expression values of the i-th ge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i, C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he set of expression values of the i-th gene in class C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the me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ake the means of the two class, divide them, and use the log- transform to make up- and down-regulation symmetr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484360" y="1836720"/>
                <a:ext cx="45705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C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556080"/>
            <a:ext cx="82216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255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LRCM, the t-statistic takes into account the variability of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-statistic has a theoretically known distribution corresponding to the null hypothesis (no change); this distribution is exploited for th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35280" y="1647720"/>
                <a:ext cx="50590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45:01Z</dcterms:created>
  <dc:creator>Jagadish Rangrej</dc:creator>
  <dc:description/>
  <dc:language>en-US</dc:language>
  <cp:lastModifiedBy>Daniele Merico</cp:lastModifiedBy>
  <dcterms:modified xsi:type="dcterms:W3CDTF">2010-07-02T19:37:05Z</dcterms:modified>
  <cp:revision>159</cp:revision>
  <dc:subject/>
  <dc:title>Introduction to R</dc:title>
</cp:coreProperties>
</file>