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7507E-7F22-4062-A248-0B3874411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E41B8-82E0-4012-BE2A-97D10F90A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0C1DF-A206-4DAE-B249-3EB36C7B1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BDB0B-02EF-4110-A2AD-6720CEE79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3F909-5013-4A0B-8440-8A9C62769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A62EA-3C16-42B1-9626-A5525A8AA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A0526-9756-4085-BC4E-09B6738A1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B07CA-73B5-46A1-97C0-A8E42D9A1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D9377-47B0-4891-8845-B61B9C1D3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859E5-330E-4608-A139-23E7E2938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58FA5-EA60-4A51-9823-AC6D98BA7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6C3EA-0203-4F36-B434-E42042E9E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E74E5-7B5E-40C2-9246-D11AC7060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9C02A-5EA5-4D25-BD7D-8A82B8057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6D10C-2C03-40F3-AE3B-563E8E5DE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56863-F12F-492A-A7C6-442DB7089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9BEA-7DD4-435E-9242-15030251C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805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3A8F-90D8-4CE2-AFF8-D400F41BF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92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BD23-F291-455F-8F0E-291627A19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12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668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12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668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6C7E-271F-432E-8B9C-68C4C2A5A1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D618-9198-45B4-97D0-3EC89CF377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251B-B20F-43D8-B03B-5C8BD94B2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A468-80CB-4D70-968A-54BADF48F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0227-916E-4C99-9C95-416A3E0C5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4608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4DD1-CE96-46E9-B531-0C55281E6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56CF-712F-48EF-96BC-2A6A73A3B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92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5DE8-97FC-4DEC-8141-4FB6BFDBD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4B60-8562-46B9-9A85-09755667B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7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09920" y="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F0779-3A56-4B52-9F2F-1F6C35366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icroarray Data Analysis (I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Differential Expressio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01/07/2010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Daniele Merico, PhD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317840" y="14457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1476360" y="34624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1768320"/>
            <a:ext cx="5545440" cy="1536840"/>
          </a:xfrm>
          <a:custGeom>
            <a:avLst/>
            <a:gdLst/>
            <a:ahLst/>
            <a:rect l="l" t="t" r="r" b="b"/>
            <a:pathLst>
              <a:path w="3493" h="968">
                <a:moveTo>
                  <a:pt x="0" y="968"/>
                </a:moveTo>
                <a:cubicBezTo>
                  <a:pt x="434" y="926"/>
                  <a:pt x="869" y="885"/>
                  <a:pt x="1134" y="741"/>
                </a:cubicBezTo>
                <a:cubicBezTo>
                  <a:pt x="1399" y="597"/>
                  <a:pt x="1459" y="212"/>
                  <a:pt x="1587" y="106"/>
                </a:cubicBezTo>
                <a:cubicBezTo>
                  <a:pt x="1715" y="0"/>
                  <a:pt x="1776" y="0"/>
                  <a:pt x="1905" y="106"/>
                </a:cubicBezTo>
                <a:cubicBezTo>
                  <a:pt x="2034" y="212"/>
                  <a:pt x="2094" y="597"/>
                  <a:pt x="2359" y="741"/>
                </a:cubicBezTo>
                <a:cubicBezTo>
                  <a:pt x="2624" y="885"/>
                  <a:pt x="3304" y="930"/>
                  <a:pt x="3493" y="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757880" y="3048480"/>
            <a:ext cx="69840" cy="490680"/>
          </a:xfrm>
          <a:prstGeom prst="rtTriangle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1535040" y="3317760"/>
            <a:ext cx="503280" cy="144720"/>
          </a:xfrm>
          <a:prstGeom prst="rect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788000" y="191628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1052640"/>
            <a:ext cx="266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Distribution of t statistic associated to th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alibri"/>
              </a:rPr>
              <a:t>Null Hypothes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o change expected between class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346248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3500280"/>
            <a:ext cx="309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Observed value t(g</a:t>
            </a:r>
            <a:r>
              <a:rPr b="0" lang="en-US" sz="1800" spc="-1" strike="noStrike" baseline="-25000">
                <a:solidFill>
                  <a:srgbClr val="333333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egative </a:t>
            </a: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 downregulation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4164120"/>
            <a:ext cx="36003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l of the distribution function for t ≤ t(gi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ability to observe t(gi) under the null hypothesi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-valu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339084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317840" y="14457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34624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1768320"/>
            <a:ext cx="5545440" cy="1536840"/>
          </a:xfrm>
          <a:custGeom>
            <a:avLst/>
            <a:gdLst/>
            <a:ahLst/>
            <a:rect l="l" t="t" r="r" b="b"/>
            <a:pathLst>
              <a:path w="3493" h="968">
                <a:moveTo>
                  <a:pt x="0" y="968"/>
                </a:moveTo>
                <a:cubicBezTo>
                  <a:pt x="434" y="926"/>
                  <a:pt x="869" y="885"/>
                  <a:pt x="1134" y="741"/>
                </a:cubicBezTo>
                <a:cubicBezTo>
                  <a:pt x="1399" y="597"/>
                  <a:pt x="1459" y="212"/>
                  <a:pt x="1587" y="106"/>
                </a:cubicBezTo>
                <a:cubicBezTo>
                  <a:pt x="1715" y="0"/>
                  <a:pt x="1776" y="0"/>
                  <a:pt x="1905" y="106"/>
                </a:cubicBezTo>
                <a:cubicBezTo>
                  <a:pt x="2034" y="212"/>
                  <a:pt x="2094" y="597"/>
                  <a:pt x="2359" y="741"/>
                </a:cubicBezTo>
                <a:cubicBezTo>
                  <a:pt x="2624" y="885"/>
                  <a:pt x="3304" y="930"/>
                  <a:pt x="3493" y="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1757880" y="3048480"/>
            <a:ext cx="69840" cy="490680"/>
          </a:xfrm>
          <a:prstGeom prst="rtTriangle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1535040" y="3317760"/>
            <a:ext cx="503280" cy="144720"/>
          </a:xfrm>
          <a:prstGeom prst="rect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788000" y="191628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6227640" y="1052640"/>
            <a:ext cx="266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Distribution of t statistic associated to th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alibri"/>
              </a:rPr>
              <a:t>Null Hypothes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o change expected between class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346248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3500280"/>
            <a:ext cx="309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Observed value t(g</a:t>
            </a:r>
            <a:r>
              <a:rPr b="0" lang="en-US" sz="1800" spc="-1" strike="noStrike" baseline="-25000">
                <a:solidFill>
                  <a:srgbClr val="333333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egative </a:t>
            </a: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 downregulation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4164120"/>
            <a:ext cx="36003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Integral of the distribution function for t ≤ t(gi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Probability to observe t(gi) under the null hypothesi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alibri"/>
              </a:rPr>
              <a:t>P-valu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339084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3522600"/>
            <a:ext cx="28432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-value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can also be interpreted as the probability to make a mistake when rejecting the Null Hypothesis in favor of the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lternative Hypothesi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in this case, C1 &gt; C2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e want low p-valu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&lt; 0.05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000"/>
            </a:b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Strength-of-change vs Test Statistic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g2 (ratio of class mean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a measure of strength of the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s on the means of classes, therefore it is unable to formally account for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ncertain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class mean esti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-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a test statistics, based on the statistical theory of inference, and specifically on hypothesis tes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ly accounts for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ncertain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class mean esti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s in a p-value, the probability of making a mistake when rejecting the null hypothesis (i.e. no change in expression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orresponds to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ignificant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not a measure of change strength, although strong change, if consistent across samples, results in a very low p-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i="1" lang="en-US" sz="4400" spc="-1" strike="noStrike">
                <a:solidFill>
                  <a:srgbClr val="ce0000"/>
                </a:solidFill>
                <a:latin typeface="Calibri"/>
              </a:rPr>
              <a:t>moderated</a:t>
            </a: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 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blem with the t-test is the insufficient number of replicates in the usual microarray study (3-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overcome this problem, several modified t-statistics, usually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oderated 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have been introdu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either define a minimal variation coefficient, or otherwise exploit the availability of many gene expression levels to better estimate single gene vari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utilize the moderated t defined in the Bioconductor packa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m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ultiple Test Correctio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64072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Let’s assume we run 1000 tests for differential expression, and we find gene g1 with p-value 1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; apparently, that gene is significantly differentia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owever, if we have a probability of 1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to obtain a t as extreme or more extreme than t (g1) under the null hypothesis, how many do you expect to find on 1000 tests?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actly 1 (= 1000 * 1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refore, a gene with p-value = 1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may well be a false positiv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s problem is addressed by multiple test correction techniqu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e will use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Benjamini-Hochberg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orrection, which outputs the false discovery rate (FDR)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FDR (g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is the fraction of false positives you expect to have when selecting all genes with p-value &lt; p-value (g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Estrogen Treatment Differential Expression </a:t>
            </a:r>
            <a:br>
              <a:rPr sz="3600"/>
            </a:b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simple t-test</a:t>
            </a:r>
            <a:endParaRPr b="0" lang="en-US" sz="36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Compute differential expression at 12h of Estrogen Treatment data-set, treated vs untre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ata needed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s.pData, es_log2.m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ph.df &lt;- pData (es.pDat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_c2.ix &lt;- match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wnames (es_ph.df)[es_ph.df$Time == "12h" &amp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s_ph.df$Trtm == "trt"]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es_log2.m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_c1.ix &lt;- match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wnames (es_ph.df)[es_ph.df$Time == "12h" &amp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s_ph.df$Trtm == "unt"]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es_log2.m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Estrogen Treatment Differential Expression </a:t>
            </a:r>
            <a:br>
              <a:rPr sz="3600"/>
            </a:b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simple t-test</a:t>
            </a:r>
            <a:endParaRPr b="0" lang="en-US" sz="36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63680"/>
            <a:ext cx="74167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Compute a signed index = log2 (p-value) * sign (t), no mult. cor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.t_test &lt;- function (input.nv, c1.ix, c2.i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.htest &lt;- t.test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put.nv[c2.ix]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input.nv[c1.ix]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ternative = "two.sided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gpv.n &lt;- - log10 (t.htest$p.value) *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n (t.htest$statisti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logpv.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pv.nv &lt;- apply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log2.mx, 1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.t_test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1.ix = s_c1.ix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2.ix = s_c2.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Estrogen Treatment Differential Expression </a:t>
            </a:r>
            <a:br>
              <a:rPr sz="3600"/>
            </a:b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limma moderated t-test</a:t>
            </a:r>
            <a:endParaRPr b="0" lang="en-US" sz="36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16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46fd5"/>
                </a:solidFill>
                <a:latin typeface="Calibri"/>
              </a:rPr>
              <a:t>Limma HowTo</a:t>
            </a:r>
            <a:endParaRPr b="0" lang="en-US" sz="2800" spc="-1" strike="noStrike">
              <a:solidFill>
                <a:srgbClr val="446fd5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fine a design model matrix, giving in input all the possible factor combinations corresponding to classes (every class can be regarded as a combination of specific factor levels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t a linear mod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fine a contrast matrix, defining which classes you want to compare using the moderated t-te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t the eBayes model for the moderated t-te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Generate the t-test p-value corrected by BH, and other statistic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Estrogen Treatment Differential Expression </a:t>
            </a:r>
            <a:br>
              <a:rPr sz="3600"/>
            </a:b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limma moderated t-test</a:t>
            </a:r>
            <a:endParaRPr b="0" lang="en-US" sz="36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219320"/>
            <a:ext cx="86407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brary (limm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actors.chv &lt;- paste (es_ph.df$Trtm, es_ph.df$Time, sep = "_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model_1.mx &lt;- model.matrix (~ 0 + factor (es_factors.chv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es_model_1.mx) &lt;- levels (factor (es_factors.chv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wnames (es_model_1.mx) &lt;- rownames (es_ph.d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it_1.lm &lt;- lmFit (es.eSet, es_model_1.m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.contras &lt;- makeContrasts (trt_12h-unt_12h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vels = es_model_1.m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it_2.lm &lt;- contrasts.fit (es_fit_1.lm, es.contr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it_2.lm &lt;- eBayes (es_fit_2.l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modt.df &lt;- topTable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it_2.lm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= nrow (es_log2.mx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djust = "BH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icroarray Data Analysis (I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2 / 3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ymbol Conversion and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Gene Annotation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icroarray Data Analysis (I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1 / 3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Differential Statistics 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or gene expression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Affymetrix and Other Identifie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ymetrix identifiers correspond to the sets of probes physically present on the microarray and aimed at the same molecular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 probe design was based on Unigene clusters of full or partial transcribed sequ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licing variants, and other transcriptional variants cannot be systematically distinguis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ymetrix unit to gene is sometimes one-to-one, sometimes many-to-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se cases we will take only the most differential probe-s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CBI EntrezGen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favorite database for gene annotation is NCBI EntrezG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: gene (one or more transcrip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ndardized functional annotations (Gene Ontology) are based on EntrezG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D systems (e.g. UniProt) can be easily mapped on EntrezG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onvert Affymetrix ID to EntrezG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conductor has annotation libraries with data derived from EntrezGene, using the EntrezGene ID as k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mbol, full name, chromosome, genomic coordinates, etc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Conversion Affymetrix &gt; EntrezGene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8480" y="1218960"/>
            <a:ext cx="73551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ourier New"/>
                <a:ea typeface="Courier New"/>
              </a:rPr>
              <a:t># Affy to entrez-gene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rary (hgu133plus2.db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affy2eg.chv &lt;- unlist (as.list (hgu133plus2ENTREZID)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ourier New"/>
                <a:ea typeface="Courier New"/>
              </a:rPr>
              <a:t># Entrez-gene to other annotations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rary (org.Hs.eg.db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eg2sy.chv &lt;- unlist (as.list (org.Hs.egSYMBOL)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eg2name.chv &lt;- unlist (as.list (org.Hs.egGENENAME)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Adding Symbols and Full name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3080" y="1052640"/>
            <a:ext cx="73440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Courier New"/>
                <a:ea typeface="Courier New"/>
              </a:rPr>
              <a:t># Pruning redundant Affys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.eg   &lt;- Ann_affy2eg.chv[es_modt.df$ID]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.Affy &lt;- es_modt.df$ID[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duplicated (all.eg) &amp; 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is.na (all.eg)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.eg   &lt;- Ann_affy2eg.chv[sel.Affy]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Courier New"/>
                <a:ea typeface="Courier New"/>
              </a:rPr>
              <a:t># Assembling final data.frame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stats_ann.df &lt;- cbind (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modt.df$ID[match (sel.Affy, es_modt.df$ID)], 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.eg,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eg2sy.chv[sel.eg],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eg2name.chv[sel.eg],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modt.df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 (sel.Affy, es_modt.df$ID), 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: ncol (es_modt.df)]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es_stats_ann.df)[1: 4] &lt;- 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 ("ID_Affy", "ID_Eg", "Symbol", "Name")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all.eg, sel.Affy)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icroarray Data Analysis (I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3 / 3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Gene profile visualization: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Heat-map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Heat Map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34920" y="1125000"/>
            <a:ext cx="5364360" cy="45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8200" indent="-18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t Maps are used to visualize gene pro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 levels are represented as colors, and this requires data transformations (discussed in the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s (and sample) are grouped using hierarchical clust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space limits it is common to visualize genes that pass given differentiality thresholds (t-test p-value, logratio, P calls) and/or restricting to specific functional catego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8646" b="0"/>
          <a:stretch/>
        </p:blipFill>
        <p:spPr>
          <a:xfrm>
            <a:off x="34920" y="1197000"/>
            <a:ext cx="417672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Data Transformations for Heat Map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219320"/>
            <a:ext cx="86407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roblem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linear expression signals span many orders of magnit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Solu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Subtracting mean and divide by standard deviation for every gene (row of the expression matr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OK for time course experi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Obscures differentiality in two-class desig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Divide all values by the mean of a common reference class (log2 rati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Good for two-class desig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Good for multi-class where a class can work as common 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Often requires setting an upper and lower saturation po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Similarity Indexes for Gene Clustering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640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re working on untransformed data, the best solution is to u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earson Corre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ased similarity on log2 (or linear) expression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ails were already discussed in lesson 4 for sample hierarchical clus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re working on log2ratio you should use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s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based simila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Heat Maps in this course…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640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be using a Cytoscape plugin for microarray data exploration where heat maps are implemented with mean, standard deviation trans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still be able to upload a pre-transformed matrix (e.g. using the common reference) and use no further trans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fault similarity index used in the plugin is pearson corre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plan adding the cosine index, that’s better suited to common reference lograt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ase you want to use R, please refer t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atmap {stats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Differential Statistic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640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we have the expression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s x Samples, signal related to transcript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need to identify which gene have an interesting behavior in relation to the experimental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atistical technique used depends on the biological question as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Differentiality for Two-class Desig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 two class desig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1: Control (no estrogen treat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2: Estrogen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logical questions: which genes are up-regulated or down-regulated after estrogen treat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iality index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2 (ratio of class mea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-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rated t-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stat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Differentiality for Two-class Desig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1" name="Rectangle 69"/>
          <p:cNvSpPr/>
          <p:nvPr/>
        </p:nvSpPr>
        <p:spPr>
          <a:xfrm>
            <a:off x="1906560" y="1838160"/>
            <a:ext cx="1152720" cy="2305080"/>
          </a:xfrm>
          <a:prstGeom prst="rect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3060720" y="1838160"/>
            <a:ext cx="1152360" cy="2305080"/>
          </a:xfrm>
          <a:prstGeom prst="rect">
            <a:avLst/>
          </a:prstGeom>
          <a:solidFill>
            <a:srgbClr val="ff505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Line 71"/>
          <p:cNvSpPr/>
          <p:nvPr/>
        </p:nvSpPr>
        <p:spPr>
          <a:xfrm>
            <a:off x="1908000" y="20541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Line 72"/>
          <p:cNvSpPr/>
          <p:nvPr/>
        </p:nvSpPr>
        <p:spPr>
          <a:xfrm>
            <a:off x="2268360" y="18381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Line 73"/>
          <p:cNvSpPr/>
          <p:nvPr/>
        </p:nvSpPr>
        <p:spPr>
          <a:xfrm>
            <a:off x="2482920" y="18399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Line 74"/>
          <p:cNvSpPr/>
          <p:nvPr/>
        </p:nvSpPr>
        <p:spPr>
          <a:xfrm>
            <a:off x="1908000" y="22716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Line 75"/>
          <p:cNvSpPr/>
          <p:nvPr/>
        </p:nvSpPr>
        <p:spPr>
          <a:xfrm>
            <a:off x="3419640" y="18381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Line 76"/>
          <p:cNvSpPr/>
          <p:nvPr/>
        </p:nvSpPr>
        <p:spPr>
          <a:xfrm>
            <a:off x="3635280" y="18381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Line 77"/>
          <p:cNvSpPr/>
          <p:nvPr/>
        </p:nvSpPr>
        <p:spPr>
          <a:xfrm>
            <a:off x="3060720" y="22716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 Box 78"/>
          <p:cNvSpPr/>
          <p:nvPr/>
        </p:nvSpPr>
        <p:spPr>
          <a:xfrm>
            <a:off x="1908000" y="14065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ression Matri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 Box 79"/>
          <p:cNvSpPr/>
          <p:nvPr/>
        </p:nvSpPr>
        <p:spPr>
          <a:xfrm>
            <a:off x="1835280" y="421488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ass-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 Box 80"/>
          <p:cNvSpPr/>
          <p:nvPr/>
        </p:nvSpPr>
        <p:spPr>
          <a:xfrm>
            <a:off x="3059280" y="421488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ass-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AutoShape 81"/>
          <p:cNvSpPr/>
          <p:nvPr/>
        </p:nvSpPr>
        <p:spPr>
          <a:xfrm>
            <a:off x="4572000" y="2776680"/>
            <a:ext cx="503280" cy="485640"/>
          </a:xfrm>
          <a:prstGeom prst="rightArrow">
            <a:avLst>
              <a:gd name="adj1" fmla="val 43787"/>
              <a:gd name="adj2" fmla="val 64727"/>
            </a:avLst>
          </a:prstGeom>
          <a:solidFill>
            <a:srgbClr val="ffff2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 Box 101"/>
          <p:cNvSpPr/>
          <p:nvPr/>
        </p:nvSpPr>
        <p:spPr>
          <a:xfrm>
            <a:off x="4714920" y="1125360"/>
            <a:ext cx="2303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es Rank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fferential Statisti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102"/>
          <p:cNvSpPr/>
          <p:nvPr/>
        </p:nvSpPr>
        <p:spPr>
          <a:xfrm>
            <a:off x="5362560" y="4226040"/>
            <a:ext cx="266544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.g.: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2 (ratio of class means)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-te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derated t-te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ther statistic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Rectangle 104"/>
          <p:cNvSpPr/>
          <p:nvPr/>
        </p:nvSpPr>
        <p:spPr>
          <a:xfrm>
            <a:off x="5364000" y="1838160"/>
            <a:ext cx="1008360" cy="23050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Line 105"/>
          <p:cNvSpPr/>
          <p:nvPr/>
        </p:nvSpPr>
        <p:spPr>
          <a:xfrm>
            <a:off x="5940360" y="18381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Line 106"/>
          <p:cNvSpPr/>
          <p:nvPr/>
        </p:nvSpPr>
        <p:spPr>
          <a:xfrm>
            <a:off x="5364000" y="20541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Line 107"/>
          <p:cNvSpPr/>
          <p:nvPr/>
        </p:nvSpPr>
        <p:spPr>
          <a:xfrm>
            <a:off x="5364000" y="22716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Line 110"/>
          <p:cNvSpPr/>
          <p:nvPr/>
        </p:nvSpPr>
        <p:spPr>
          <a:xfrm>
            <a:off x="6588000" y="191124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112"/>
          <p:cNvSpPr/>
          <p:nvPr/>
        </p:nvSpPr>
        <p:spPr>
          <a:xfrm>
            <a:off x="6659640" y="18381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 Box 113"/>
          <p:cNvSpPr/>
          <p:nvPr/>
        </p:nvSpPr>
        <p:spPr>
          <a:xfrm>
            <a:off x="6659640" y="38782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g2 (ratio of class means)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16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1280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the set of expression values of the i-th ge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 i, CX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the set of expression values of the i-th gene in class C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the me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ake the means of the two class, divide them, and use the log- transform to make up- and down-regulation symmetr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484360" y="1836720"/>
                <a:ext cx="45705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C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556080"/>
            <a:ext cx="82216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12800" indent="-255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like LRCM, the t-statistic takes into account the variability of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-255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-statistic has a theoretically known distribution corresponding to the null hypothesis (no change); this distribution is exploited for the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835280" y="1647720"/>
                <a:ext cx="505908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d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d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317840" y="14457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34624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1768320"/>
            <a:ext cx="5545440" cy="1536840"/>
          </a:xfrm>
          <a:custGeom>
            <a:avLst/>
            <a:gdLst/>
            <a:ahLst/>
            <a:rect l="l" t="t" r="r" b="b"/>
            <a:pathLst>
              <a:path w="3493" h="968">
                <a:moveTo>
                  <a:pt x="0" y="968"/>
                </a:moveTo>
                <a:cubicBezTo>
                  <a:pt x="434" y="926"/>
                  <a:pt x="869" y="885"/>
                  <a:pt x="1134" y="741"/>
                </a:cubicBezTo>
                <a:cubicBezTo>
                  <a:pt x="1399" y="597"/>
                  <a:pt x="1459" y="212"/>
                  <a:pt x="1587" y="106"/>
                </a:cubicBezTo>
                <a:cubicBezTo>
                  <a:pt x="1715" y="0"/>
                  <a:pt x="1776" y="0"/>
                  <a:pt x="1905" y="106"/>
                </a:cubicBezTo>
                <a:cubicBezTo>
                  <a:pt x="2034" y="212"/>
                  <a:pt x="2094" y="597"/>
                  <a:pt x="2359" y="741"/>
                </a:cubicBezTo>
                <a:cubicBezTo>
                  <a:pt x="2624" y="885"/>
                  <a:pt x="3304" y="930"/>
                  <a:pt x="3493" y="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788000" y="191628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1052640"/>
            <a:ext cx="266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bution of t statistic associated to th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ull Hypothes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o change expected between class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317840" y="14457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34624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1768320"/>
            <a:ext cx="5545440" cy="1536840"/>
          </a:xfrm>
          <a:custGeom>
            <a:avLst/>
            <a:gdLst/>
            <a:ahLst/>
            <a:rect l="l" t="t" r="r" b="b"/>
            <a:pathLst>
              <a:path w="3493" h="968">
                <a:moveTo>
                  <a:pt x="0" y="968"/>
                </a:moveTo>
                <a:cubicBezTo>
                  <a:pt x="434" y="926"/>
                  <a:pt x="869" y="885"/>
                  <a:pt x="1134" y="741"/>
                </a:cubicBezTo>
                <a:cubicBezTo>
                  <a:pt x="1399" y="597"/>
                  <a:pt x="1459" y="212"/>
                  <a:pt x="1587" y="106"/>
                </a:cubicBezTo>
                <a:cubicBezTo>
                  <a:pt x="1715" y="0"/>
                  <a:pt x="1776" y="0"/>
                  <a:pt x="1905" y="106"/>
                </a:cubicBezTo>
                <a:cubicBezTo>
                  <a:pt x="2034" y="212"/>
                  <a:pt x="2094" y="597"/>
                  <a:pt x="2359" y="741"/>
                </a:cubicBezTo>
                <a:cubicBezTo>
                  <a:pt x="2624" y="885"/>
                  <a:pt x="3304" y="930"/>
                  <a:pt x="3493" y="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1757880" y="3048480"/>
            <a:ext cx="69840" cy="490680"/>
          </a:xfrm>
          <a:prstGeom prst="rtTriangle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1535040" y="3317760"/>
            <a:ext cx="503280" cy="144720"/>
          </a:xfrm>
          <a:prstGeom prst="rect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88000" y="191628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1052640"/>
            <a:ext cx="266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Distribution of t statistic associated to th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alibri"/>
              </a:rPr>
              <a:t>Null Hypothes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o change expected between class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346248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3500280"/>
            <a:ext cx="309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served value t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egativ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ownregulation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8:45:01Z</dcterms:created>
  <dc:creator>Jagadish Rangrej</dc:creator>
  <dc:description/>
  <dc:language>en-US</dc:language>
  <cp:lastModifiedBy>Daniele Merico</cp:lastModifiedBy>
  <dcterms:modified xsi:type="dcterms:W3CDTF">2010-07-02T19:37:05Z</dcterms:modified>
  <cp:revision>159</cp:revision>
  <dc:subject/>
  <dc:title>Introduction to R</dc:title>
</cp:coreProperties>
</file>