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5D9C-F81B-4A6C-B132-7C128942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8D8-8661-4BAD-9A39-FA3140E9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E06-BCE6-4011-AA63-8420328F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B1B-822D-40A8-905F-0BB8656B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458-37D2-4F9E-83D2-9CA70EEE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492F-4BE1-446B-9004-E13E815C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037-9563-4EA5-B539-86908551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9DC-512B-499D-B970-A9BD0D75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43B-7305-4128-A326-8D0351B8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8F2-6740-4690-8C03-EFF8480D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7A6-5A5B-4CE9-9EAB-265E7359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5E6-99BE-42CC-BF8E-A0C8B500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AC60-2977-4CA6-B3CE-292825253C0E}" type="datetime">
              <a:rPr b="0" lang="en-US" sz="1200" spc="-1" strike="noStrike">
                <a:solidFill>
                  <a:srgbClr val="898989"/>
                </a:solidFill>
                <a:latin typeface="Segoe U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EE04-E18C-46D1-861D-EF530B8DFB91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bioinformatics.ca-logo-white-text.png"/>
          <p:cNvPicPr/>
          <p:nvPr/>
        </p:nvPicPr>
        <p:blipFill>
          <a:blip r:embed="rId2"/>
          <a:stretch/>
        </p:blipFill>
        <p:spPr>
          <a:xfrm>
            <a:off x="76320" y="1882800"/>
            <a:ext cx="1191960" cy="50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0000"/>
                </a:solidFill>
                <a:latin typeface="Calibri"/>
                <a:ea typeface="ＭＳ Ｐゴシック"/>
              </a:rPr>
              <a:t>Canadian Bioinformatics Workshop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182600" y="3695400"/>
            <a:ext cx="67788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bioinformatics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748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1"/>
          <a:srcRect l="0" t="0" r="0" b="15649"/>
          <a:stretch/>
        </p:blipFill>
        <p:spPr>
          <a:xfrm>
            <a:off x="250920" y="1125360"/>
            <a:ext cx="8316720" cy="5251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7"/>
          <p:cNvSpPr/>
          <p:nvPr/>
        </p:nvSpPr>
        <p:spPr>
          <a:xfrm flipV="1">
            <a:off x="324000" y="2132640"/>
            <a:ext cx="7993080" cy="71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 flipV="1">
            <a:off x="3132000" y="2349360"/>
            <a:ext cx="1079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 flipV="1">
            <a:off x="324000" y="2852640"/>
            <a:ext cx="10792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5219640" y="836640"/>
            <a:ext cx="201636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 flipH="1">
            <a:off x="4140000" y="1196640"/>
            <a:ext cx="1080000" cy="10803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3059280" y="4437000"/>
            <a:ext cx="20890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5"/>
          <p:cNvCxnSpPr/>
          <p:nvPr/>
        </p:nvCxnSpPr>
        <p:spPr>
          <a:xfrm flipH="1">
            <a:off x="5221080" y="457956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03" name="TextBox 6"/>
          <p:cNvSpPr/>
          <p:nvPr/>
        </p:nvSpPr>
        <p:spPr>
          <a:xfrm>
            <a:off x="6084720" y="429264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nnotation Clustering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1763640" y="1557360"/>
            <a:ext cx="2087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7"/>
          <p:cNvCxnSpPr/>
          <p:nvPr/>
        </p:nvCxnSpPr>
        <p:spPr>
          <a:xfrm flipH="1">
            <a:off x="3995280" y="1267920"/>
            <a:ext cx="145440" cy="2894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108000" y="5950080"/>
            <a:ext cx="208764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2268360" y="5732640"/>
            <a:ext cx="5399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enriched terms not included in the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584280" y="0"/>
            <a:ext cx="7516800" cy="64627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2268360" y="1700280"/>
            <a:ext cx="4967640" cy="410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977080" y="836640"/>
            <a:ext cx="31669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ene-set sources you pre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52280" y="26665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are on a Coffee Break &amp; Networking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ED7C-C3DC-4870-9822-3A0561862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ate Placeholder 2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#: Title of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Content Placeholder 9" descr="Picture 1.png"/>
          <p:cNvPicPr/>
          <p:nvPr/>
        </p:nvPicPr>
        <p:blipFill>
          <a:blip r:embed="rId1"/>
          <a:stretch/>
        </p:blipFill>
        <p:spPr>
          <a:xfrm>
            <a:off x="914400" y="73080"/>
            <a:ext cx="6858000" cy="673416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0" y="2514600"/>
            <a:ext cx="6172200" cy="4343400"/>
          </a:xfrm>
          <a:prstGeom prst="rect">
            <a:avLst/>
          </a:prstGeom>
          <a:solidFill>
            <a:srgbClr val="4f81bd">
              <a:alpha val="1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 image to represent your workshop or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60480" y="365040"/>
            <a:ext cx="60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Module 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Pathway Analysis 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890640" y="1749600"/>
            <a:ext cx="5186160" cy="774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"/>
          <p:cNvSpPr/>
          <p:nvPr/>
        </p:nvSpPr>
        <p:spPr>
          <a:xfrm>
            <a:off x="670392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2"/>
          <a:stretch/>
        </p:blipFill>
        <p:spPr>
          <a:xfrm>
            <a:off x="108000" y="2637000"/>
            <a:ext cx="5940360" cy="3968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666900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6143760" y="4440240"/>
            <a:ext cx="2965320" cy="179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4"/>
          <a:srcRect l="63452" t="20523" r="12514" b="37486"/>
          <a:stretch/>
        </p:blipFill>
        <p:spPr>
          <a:xfrm>
            <a:off x="6435720" y="2693880"/>
            <a:ext cx="2263680" cy="9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5"/>
          <a:srcRect l="13137" t="21531" r="43492" b="22444"/>
          <a:stretch/>
        </p:blipFill>
        <p:spPr>
          <a:xfrm>
            <a:off x="6121440" y="3814920"/>
            <a:ext cx="2987640" cy="877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"/>
          <p:cNvSpPr/>
          <p:nvPr/>
        </p:nvSpPr>
        <p:spPr>
          <a:xfrm>
            <a:off x="6742800" y="638172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75e"/>
                </a:solidFill>
                <a:latin typeface="Arial"/>
              </a:rPr>
              <a:t>http://baderlab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43080" y="0"/>
            <a:ext cx="7900920" cy="6416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395280" y="2276640"/>
            <a:ext cx="136836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5280" y="3933720"/>
            <a:ext cx="151272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4724280"/>
            <a:ext cx="936720" cy="21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5280" y="5229360"/>
            <a:ext cx="1152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108000" y="2924280"/>
            <a:ext cx="1368360" cy="14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3059280" y="4581360"/>
            <a:ext cx="180000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6"/>
          <p:cNvCxnSpPr/>
          <p:nvPr/>
        </p:nvCxnSpPr>
        <p:spPr>
          <a:xfrm flipH="1">
            <a:off x="5002920" y="4723920"/>
            <a:ext cx="79308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2" name="TextBox 7"/>
          <p:cNvSpPr/>
          <p:nvPr/>
        </p:nvSpPr>
        <p:spPr>
          <a:xfrm>
            <a:off x="5867280" y="443700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5837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 flipV="1">
            <a:off x="2340000" y="5373720"/>
            <a:ext cx="1655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5"/>
          <p:cNvCxnSpPr/>
          <p:nvPr/>
        </p:nvCxnSpPr>
        <p:spPr>
          <a:xfrm flipH="1">
            <a:off x="4066920" y="551628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6" name="TextBox 6"/>
          <p:cNvSpPr/>
          <p:nvPr/>
        </p:nvSpPr>
        <p:spPr>
          <a:xfrm>
            <a:off x="4932360" y="5229360"/>
            <a:ext cx="3527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view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 flipV="1">
            <a:off x="2340000" y="2852640"/>
            <a:ext cx="223200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8"/>
          <p:cNvCxnSpPr/>
          <p:nvPr/>
        </p:nvCxnSpPr>
        <p:spPr>
          <a:xfrm flipH="1">
            <a:off x="4571640" y="364464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9" name="TextBox 9"/>
          <p:cNvSpPr/>
          <p:nvPr/>
        </p:nvSpPr>
        <p:spPr>
          <a:xfrm>
            <a:off x="5364000" y="3141720"/>
            <a:ext cx="3095640" cy="11912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categories to see databases selected by defau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cxnSp>
        <p:nvCxnSpPr>
          <p:cNvPr id="281" name="Straight Arrow Connector 8"/>
          <p:cNvCxnSpPr>
            <a:stCxn id="282" idx="1"/>
          </p:cNvCxnSpPr>
          <p:nvPr/>
        </p:nvCxnSpPr>
        <p:spPr>
          <a:xfrm flipH="1">
            <a:off x="2770920" y="2548080"/>
            <a:ext cx="1513800" cy="2340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2" name="TextBox 9"/>
          <p:cNvSpPr/>
          <p:nvPr/>
        </p:nvSpPr>
        <p:spPr>
          <a:xfrm>
            <a:off x="4284720" y="2133720"/>
            <a:ext cx="1511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se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7524720" y="620640"/>
            <a:ext cx="151128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p-value: enrichmen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16"/>
          <p:cNvCxnSpPr>
            <a:stCxn id="283" idx="2"/>
          </p:cNvCxnSpPr>
          <p:nvPr/>
        </p:nvCxnSpPr>
        <p:spPr>
          <a:xfrm flipH="1">
            <a:off x="6948000" y="2190240"/>
            <a:ext cx="1332720" cy="3754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85" name="Straight Arrow Connector 20"/>
          <p:cNvCxnSpPr/>
          <p:nvPr/>
        </p:nvCxnSpPr>
        <p:spPr>
          <a:xfrm flipH="1" flipV="1">
            <a:off x="7235640" y="2636640"/>
            <a:ext cx="1008720" cy="7783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6" name="TextBox 22"/>
          <p:cNvSpPr/>
          <p:nvPr/>
        </p:nvSpPr>
        <p:spPr>
          <a:xfrm>
            <a:off x="7451640" y="3500280"/>
            <a:ext cx="16574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jamini: false discover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 flipV="1">
            <a:off x="6300720" y="2275920"/>
            <a:ext cx="165600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5724360" y="115920"/>
            <a:ext cx="30956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file: Right click on Download file and save as DAVIDgbm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Straight Arrow Connector 6"/>
          <p:cNvCxnSpPr>
            <a:stCxn id="289" idx="2"/>
            <a:endCxn id="288" idx="3"/>
          </p:cNvCxnSpPr>
          <p:nvPr/>
        </p:nvCxnSpPr>
        <p:spPr>
          <a:xfrm flipH="1">
            <a:off x="7127640" y="1685520"/>
            <a:ext cx="144720" cy="591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8:53:51Z</dcterms:created>
  <dc:creator>Michael Stromberg</dc:creator>
  <dc:description/>
  <dc:language>en-US</dc:language>
  <cp:lastModifiedBy>Veronique Voisin</cp:lastModifiedBy>
  <dcterms:modified xsi:type="dcterms:W3CDTF">2011-08-26T19:57:10Z</dcterms:modified>
  <cp:revision>662</cp:revision>
  <dc:subject/>
  <dc:title>Slide 1</dc:title>
</cp:coreProperties>
</file>